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AC9-25D4-46D3-BC24-A9686CFF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244-73C8-48DC-BAB4-47F1B442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27987-DE41-4186-84B3-0BF62964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1683F-9EE2-42AC-BE68-85F62F77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F6BFE-365E-4582-A5C7-C25C5105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A3146-9735-44C5-BD2D-3D9D1725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A1E57-57FF-4D10-944C-0D6EEC56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76B5C-716E-46D1-8196-138B7759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BEE7E-3498-4F9B-B1E0-8ECA4F1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A40C5-9642-4255-BA39-8C1C9BFB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83223-4FC6-4FAF-92E8-1F51EA24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03794-52BE-40DB-939C-3435AFD9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3ED-13C1-4C4F-9C8F-668A15ED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F020B-1F32-4F9C-B3CB-1603B1D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5CFA1-7AF2-4218-9BD8-DB28A474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AC5B3-E6E7-49AD-B30B-E19A8A4A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13F69-F861-4485-A917-948C3251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9436A-9C20-4A1B-8DB4-9507DE66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75925-3E0D-4BB1-8CEC-E6D459B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78C6D-5D0A-4991-89E6-5502A5A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7D3EA-8B93-4E6D-BBF8-506605AD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A7020-B40E-4676-9229-1AF80858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9AECA-0129-4A91-A2F7-CA172812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75E-1D17-4026-BC82-1D17CDE5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CB11B-B6C5-45FD-8E71-07589289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C2D64-26FA-4C91-940B-74C10033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D1C90-15B1-4D48-AFE0-31E3B856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DC583-5ADB-4C45-9046-92EF97E3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FBF68-A27B-4D68-920B-A2FBB447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5AF06-129D-40B6-8039-7BAC688F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E7064-61E1-4DD7-A65D-4CE0A733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A0E64-E4A6-4FDB-9052-B4BA1332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CAB0C-4786-4CFE-B23F-DD542BEA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DDFD2-F8A6-4AC1-AB80-E8587658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E767-C47B-43C8-AFE2-85C60F3D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FE0DB-089F-474A-A6AA-1943EBD1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FAE9-C69A-4659-B0D4-2086DF0F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A631B-E9DA-49A5-BC24-E0BAD5C4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7FEF7-10CA-4B04-9F12-9FE3775C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A99E8-3C80-478C-99C3-7BAB89BD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82C8B-316D-4F44-9BBC-6259FAE0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54EBC-6833-4079-9DA9-458D8C83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C9030-733E-45E8-8F8C-7B953FD0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9CCF6-A9F9-470D-B2E7-040830B6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24356-6CF4-44E4-AC52-E30BC84B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8804-1B08-4058-A79E-3B08A959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648E3-3142-4770-8292-D8C7645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9FC60-0B2B-4A3C-B98B-F58C3E89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F46AB-0D39-4846-A233-E8BA07E0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5E5E0-D1B5-47E1-A299-CA2E366B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3C3E3-AD90-49DC-8EB7-12D9EE60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A064C-1655-4B81-AC8B-FB3282D8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D68EF-F9E7-451F-8A52-A0080050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22C40-D6DA-4FB4-BBB2-62652E90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FC60D-BD6B-4649-99F3-95B8018F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555F3-76E9-44FF-987F-582276C4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C488-832C-4FDB-99AF-530D57DF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5B75F-9CEE-4C3D-8053-76032091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87E40-A847-44F8-ABBF-E7F5B98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068E3-89CF-4AFB-8CDA-61438F3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1C766-5798-4EBF-8B5B-95720F8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C7ECB-3F1A-4A69-81D4-4283E0FD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358B1-ED28-433B-8FAB-CD118D9B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634AC-82BA-447D-8E07-07BEFE79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21FE2-74EA-4AD8-A3CD-1A76EEBE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60F77-90EA-42C0-AB9D-8411ED35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5F3EB-8F94-48E2-A1A6-1356D565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BD00-9BBA-45C9-894A-5B2FBA22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2DCE8-D286-4F1E-8C04-73EFDF08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ACA9D-3492-45D8-A9D8-757B2911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FB6B7-9B49-47FA-9BD6-B47DD95A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04C92-0C50-4291-9B98-0635976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7A35A-A3A9-4E88-A415-1A1AB93B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4D97C-D9AD-4D7C-9A18-3079965C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DC7E5-7C87-420D-AB93-A7DB824E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EBC7E-F5B4-4354-B9B2-6F66F511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202C0-8B42-454A-A034-BE608627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CE70D-FE59-4A9B-B56F-DD8963B9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856B-26EF-4D1C-842C-9169B87B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19D0D-9F9F-4015-9F0F-52C4327B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B43AC-814D-419C-8F89-BF53333F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F1DB7-62B4-4A60-ABBF-0814C315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67A45-F739-4600-87A5-60FDE20B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8314A-D7B9-4772-8C07-EC289F1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335A7-B6D0-4A34-B0F4-C1DAB9D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609DC-69CD-4095-9413-5183A02B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5264AA-8718-4ECD-B98D-5E0A6629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9C70F-D522-40A7-83C8-48B6199C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29336-A6F1-4168-9B0F-D7A5B7DB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A88B-4BE2-4758-935A-5BC6C714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46344B-18DD-491F-8721-57D9462C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56AA6-0F9C-4992-AAE9-64F63AA4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98EC6-7727-4696-8AE9-A6D22446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354CA-5B72-48B0-BCFF-956BECE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0D1FC-CC58-4EC8-AC52-BDD8DC60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E0A7E-A3B3-4086-B3CE-2901F8A4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BED9E-6C91-4FAB-B992-493C4040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21E87-F919-4D3B-9FAF-0EE052BD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BA558-AE9D-474A-BAAF-735E5CA2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195AF-764C-480F-90C3-7DA71995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9D02-0FED-4A9B-8573-28F8293D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690BD-6D40-4959-BCCA-67799B5F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DB01E-7454-404E-8248-9F193264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DB007-0708-40F1-8E2E-89ED83F1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94061-7A87-4E30-931B-63822FEE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CE0FD-449F-4291-8BF5-A0929758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D4F71-E790-46F7-8702-20125378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AD31E-EE35-4FE2-A978-9FE46253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0B3C4-7397-4590-B8D0-1C797542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F83A03-5EEC-470C-9C69-4DFCA7A2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2FEF0-E35A-4FE7-95A1-5B5DD18B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86E-E835-4278-BB92-23D7DE7B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DD18-A6E6-47D5-838F-B5D6432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4CCCB-3483-45CC-A12E-4B1CCD14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3727A-EAAD-48CC-A67A-93CF5B29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14A43-759B-4314-8CF7-B2412AA2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82073-A38D-48A5-B19A-96FF6CA3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2691D-CAEF-4374-9488-15FD0074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629258-C1E6-40DA-B8AE-E7AAAC77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C4F3D-8E14-4623-8F5F-E76E3BAF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E928A-439B-4CE6-9F4C-677EEF23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C3FF9-3780-47B6-91D7-F93B84D6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992741-E2A5-4519-BEFD-721A207C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9018-5582-4FDA-A728-BEB12EDD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C5154-74B0-496A-A09B-4DAFFE1D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FFC42-2569-444D-9062-012FFE37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AF88F-955F-46B8-A769-0CEC3C60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BEAF0B-C8DC-4CF4-AC06-2FEDB297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735DB-DB0D-4470-9D56-A759732D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26D3B-14CA-4769-AE4D-AA3974C2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07724-F78B-47DF-8282-272B5144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ABCCC0-617C-4950-98C4-4261B2DC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5877B-2432-4514-AD3F-84F22E25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7E0D2D-C816-4708-9EAA-F5D872C3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FF63-38CD-4561-894E-B19E8720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8D1BB-C02B-4E95-9381-9CEFE0DD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1C0CC-2ACC-4982-84B1-CE55E09A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973B6A-29D9-4F2D-9D50-239E010A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5C1252-7B50-42E1-8ACD-BC087C7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02A17C-F3B0-41DC-8D63-0F01B1BC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E2064-725C-408B-96A1-7738632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49815-C28C-4B56-A3B4-9FC41293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590BE-6535-447A-9E2C-729578D7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A9A8AB-C4C2-46B0-8F4F-B6F1A84D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71940-22F0-453D-8BA1-8599EFD8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024C-7951-4C9E-9D81-B40D8149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8E49C-13BF-459F-BA19-35237AF3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AA60F-2789-4E00-BC65-FCA62458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BD9C2-3142-48DF-BEDB-0B9A07F6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038BC-017E-452B-9E72-3287EE09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436785-0D19-4B0E-8539-6696B2AD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C10B6-AA1B-42FA-90CD-B3C40ABB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87CCCF-EF51-4787-AE36-1EE97420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720D6-75C0-445E-B77F-F055D828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2A457-FA99-4911-9D25-FC8751B0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481DB7-595D-4B00-B840-9C7B05A1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2E75-486E-488C-8C67-28C82A0A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A46E6-6C6D-4CF7-88A6-9785C132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2402FF-E0C0-4F13-A411-326BE6C2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639B6-5C69-408E-9D76-21B4331A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89E58-87B4-411D-B12D-5877E760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294138-F44C-46D1-B013-ADF525D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85348D-3D92-4D5B-8202-6F9B10A4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B74024-1F15-4682-961E-18E2DABF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065CFC-29F8-4478-A602-7AAB9E36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83578-1875-4DAD-B845-E16FF2C3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C296A0-ABA9-4D81-90C1-52BC4131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45E0-51D6-414A-A335-97A3CD04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3E182D-A53C-45F3-9A6D-93139E45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CDC3AA-8C9B-4321-AD62-F2ECE038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EC9FBD-E716-45CA-B647-89558E2F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39B7-FB3D-42A2-B655-E0F5CF53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A806-FE25-4666-9819-76E98C17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ABB5-C257-42C5-B9E0-EEAC8CF5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773B-7832-4CCD-BC1C-2CBC0E0A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7A5-7288-47A6-9576-AAA16B53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AE61-0D00-4A9F-A204-F61247D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EDC7-01D8-488C-B104-F441F106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02AD-6112-42A9-8579-897AAE20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98CC-14C9-4D23-B712-FBB3A3BA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79BB-770F-4F1C-BC4E-4CE5256B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354E-447B-4549-A42E-07F1A6B9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A43A-7E16-4145-AC67-6C39063D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1ED8-0CDA-4582-8282-5BB77F23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AD57A-B064-44D8-B1B2-CEFA1B4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055B-43EF-48C6-9A38-0848A06A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3EC-B2BC-4461-A52E-36E09FE2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8556D-9BE4-4055-AF17-A38F01B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74DA-A498-4D2E-85AA-FE5B8972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BDE6-A05D-4E3F-963D-6EA0CFB0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A663-E694-4E8E-A1CD-D0447B79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80156-8FA6-4C54-AF42-1DA2E1D3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255E-3A1C-4162-B395-9DBA3BA9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3B35-C0FF-45A6-895A-64D7DDA3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645B-FADB-4167-8F03-8DC8FE57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6179-FD25-4489-9780-4CE7F069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1A031-0830-42A6-9607-F34C89B0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93D-1815-446C-A8ED-CB401373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D466-3664-4C90-B633-F8392559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3C459-A3CB-498F-A83F-CEF976D7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EBFEC-B41F-4282-8B4D-E2D4E26A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2A8B-9EAB-4513-97D0-D5623994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14671-370B-4E8A-9050-52444692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77959-A55B-423B-8517-CB8BB7E8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8B771-2D30-4461-AA99-F482F8A9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5C65-5945-4E0E-A750-33B10AC5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5462D-62B1-4839-8ABE-02485BA8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5B668-5AD0-4993-A565-969B1321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EEE-FAE6-44F0-B5E7-D8158B31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B189-3E0F-4FBC-85D8-CDC908C4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2FDA0-7CD5-4806-8AF6-E29526C4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CB487-C6C3-4A81-A7EB-54B6764F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474D1-1E66-4797-8050-374A75F2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67F0E-6E59-4B51-A346-A218D5CF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002DE-8B1B-4A51-9175-69D2AC3E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764E6-616A-4C3A-BEED-899B28E8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87BF4-3B6C-43BB-B0C5-E4F6C665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5B08E-87F7-4D4D-AF44-9F53362F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A1918-05B9-476B-B69D-CCBF8982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95D-6B78-4E14-A996-881DB0BE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9B76F-9048-4B9B-B794-6307B45C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4B11-81DE-4F25-9DC2-3AB918F8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E4001-8CF4-47E9-A430-93534B77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2610F-3CDB-4D4F-8727-99DBC16C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9D495-5626-463E-8750-F7304731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E0FA4-827B-4B0A-BCF1-05985B4D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AB5FF-A4D6-421E-949F-2DD045DD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2786-3AD0-4019-A4A2-50EC5DDE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F6AC0-7E2A-437D-8E12-4A9F1F6C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BB569-75EA-412F-8EAD-AD3C051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A8B-3CFD-4331-BB10-2EF88670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1D41B-6152-474B-8474-1E567A68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A1221-5454-4177-AD08-08967B3A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D67CE-2346-485D-A170-AB63BF5E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9980B-024A-405B-92D5-93AF86E4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FE9F-2174-4566-B3EA-EC43DCBE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06EA4-D9DC-45AE-AAD4-C2AB9C69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71AF2-7D7F-4821-B7DC-DE9D3952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4294C-8A47-415C-9D24-CA58C81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55514-8F33-4B45-9C33-3AD79BE4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72F70-2292-4B78-BD95-113BB3E5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8AD-02A6-4944-90E3-8AE5F31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90DF2-6EA5-45F8-931F-DF511732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9AB2F-7375-4C9F-ACCF-CA70356D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EAED6-09DC-4CA4-88FC-510F4E8F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38D9C-9EC1-4A02-B8F1-C462F54F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B651D-77EE-44B3-9FD6-E2BCF3A8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D20F2-E7FD-4941-897A-2CC45EB4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712AA-48AF-4EB4-8D4E-B49C0238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DF25E-F5AB-4E7A-A6AC-E2C3EEEA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D1A32-16D8-4ADB-A3A3-EAA1BF3B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C35C9-1091-46CC-9A28-FFA5469A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90A1-F34B-4E2A-9634-B2F6BE4B95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B7E-DCEF-471E-9B6D-20FBDB309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35FA-A193-4085-980C-E4358D3148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1F09-479C-4849-BFF0-4E5511188B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EC2D-88B7-4CF8-A03F-40702440EE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29ED-A9FE-46A8-9785-C3538039E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749A-C02B-472D-A87C-23B23BAE9C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8B46-B540-444C-812D-D363C97EA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6BB9-201C-43F2-9B86-FB9DDBC08E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11F3-FAF5-41A3-BF57-7F1312C181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563E-9FB6-4497-8AFD-99D784B53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64B1-9AF1-4FDB-BFA6-BD92004229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2F2F-0B86-4988-87E6-CFD6C68E9C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5941-D67B-4D49-9E83-EF5ECFA9AA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01F-BFAE-484F-8D87-3EC59865A0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B24D-8407-475B-BB53-14719CE72E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216D-EF4B-4244-ABB8-1EA2E1CBFA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754-BE55-49C4-96C2-D663108674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22BE-6657-4590-9ED1-D9FBE26F5D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A6D3-7C2E-49B8-9B54-89FE68DC1F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2273-BC97-4DD1-9DEA-337528A3D6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C20B-5C51-4A1B-8FB5-E9C705EBA4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ADF0-7D4D-484C-AFD5-6A49069426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B354-C9F8-4B92-AE03-C52D3ED07F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24CC-CD66-4504-821E-7AA6D5F9DE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B9C8-03A9-4220-B993-CB9A24DB4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CB01-9B2F-4DC3-943D-F997DCFAC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FB6D-E1DD-4ABD-9D13-929B7AF126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1DBD-705B-43F2-AB7A-3EF9091E4F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5868-090B-47B3-A305-ED59F05B6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C33E-13E4-48C3-96CF-D0B5ED03C9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39D6-7F73-4CD6-8276-FEA77A535C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7D64-7312-4620-97B7-D0EE903195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2898-F473-49C6-9582-BFF84CAF22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DE12-13C5-4F7E-A8E0-BB0386140B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3300-D0B9-48C7-BE54-9ED5AE7779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9819-5685-4F20-9D46-CCEECC0113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D64C-02E9-4E08-B407-72F36389A0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F580-7260-44F5-9630-2DE36FF7A8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C629-0779-45F0-B8FC-3C6AE05D1B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8729640" cy="10796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290680" y="3821040"/>
            <a:ext cx="45626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262080" y="1395360"/>
            <a:ext cx="8619840" cy="4067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826920" y="4869000"/>
            <a:ext cx="6193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76120" y="1004760"/>
            <a:ext cx="85917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1352520" y="828720"/>
            <a:ext cx="6438960" cy="260028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59411" descr=""/>
          <p:cNvPicPr/>
          <p:nvPr/>
        </p:nvPicPr>
        <p:blipFill>
          <a:blip r:embed="rId2"/>
          <a:stretch/>
        </p:blipFill>
        <p:spPr>
          <a:xfrm>
            <a:off x="652320" y="3610080"/>
            <a:ext cx="7839360" cy="2771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5796000" y="893880"/>
            <a:ext cx="863640" cy="706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3564000" y="2722680"/>
            <a:ext cx="649080" cy="503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6732720" y="3514680"/>
            <a:ext cx="934920" cy="777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6948360" y="5589720"/>
            <a:ext cx="649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318960" y="2200320"/>
            <a:ext cx="8506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7352" descr=""/>
          <p:cNvPicPr/>
          <p:nvPr/>
        </p:nvPicPr>
        <p:blipFill>
          <a:blip r:embed="rId1"/>
          <a:stretch/>
        </p:blipFill>
        <p:spPr>
          <a:xfrm>
            <a:off x="652320" y="804960"/>
            <a:ext cx="7839360" cy="5248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6443640" y="2781360"/>
            <a:ext cx="649440" cy="503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372360" y="3645000"/>
            <a:ext cx="649080" cy="503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6372360" y="4437000"/>
            <a:ext cx="649080" cy="503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372360" y="5286240"/>
            <a:ext cx="649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738360" y="1838160"/>
            <a:ext cx="7667280" cy="3181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3146400" y="2881440"/>
            <a:ext cx="1297080" cy="503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3909960" y="350028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4341960" y="3889440"/>
            <a:ext cx="9363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5300" descr=""/>
          <p:cNvPicPr/>
          <p:nvPr/>
        </p:nvPicPr>
        <p:blipFill>
          <a:blip r:embed="rId1"/>
          <a:stretch/>
        </p:blipFill>
        <p:spPr>
          <a:xfrm>
            <a:off x="252360" y="914400"/>
            <a:ext cx="8639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4276" descr="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506736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4277" descr=""/>
          <p:cNvPicPr/>
          <p:nvPr/>
        </p:nvPicPr>
        <p:blipFill>
          <a:blip r:embed="rId2"/>
          <a:stretch/>
        </p:blipFill>
        <p:spPr>
          <a:xfrm>
            <a:off x="1333440" y="6097680"/>
            <a:ext cx="2733840" cy="571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826920" y="735120"/>
            <a:ext cx="7848720" cy="24778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684360" y="3284640"/>
            <a:ext cx="7848360" cy="1296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539640" y="4653000"/>
            <a:ext cx="7848720" cy="1297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1187280" y="6121440"/>
            <a:ext cx="4392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2231" descr=""/>
          <p:cNvPicPr/>
          <p:nvPr/>
        </p:nvPicPr>
        <p:blipFill>
          <a:blip r:embed="rId1"/>
          <a:stretch/>
        </p:blipFill>
        <p:spPr>
          <a:xfrm>
            <a:off x="561960" y="766800"/>
            <a:ext cx="8020080" cy="5686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971640" y="1427040"/>
            <a:ext cx="7632720" cy="5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826920" y="3371760"/>
            <a:ext cx="7632720" cy="503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755640" y="5977080"/>
            <a:ext cx="763272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38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