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F88-99BE-45B5-953A-5F5AE718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D8D-FE87-418F-87F2-6454ED1A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471DA-DF9D-4EA7-B03C-61426D38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13B2E-A751-44A8-99DD-C4012911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F49DF-975E-4844-B9F8-271893A8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E8873-69C8-418D-8433-E4C248AF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9C913-0836-4881-A00F-B82310C7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60D55-E74F-4092-A651-3F66B954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889CE-E76D-47AD-B553-5BF8D4C7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E60E6-3239-448B-A5B5-8BD7EE5E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77F59-0999-4DF3-90F9-B41849D0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1AC11-8D6C-4391-86A2-9AD76C71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2C3-95FE-4C43-A661-88C4E155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7E61C-E78A-4FFA-A3FB-1F3C8D8D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22062-3F92-4B9B-8F8E-7E0AF5EB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8CEA2-B3A0-445D-97F4-20C6F823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4DA03-2005-4531-AAFC-8E5A2F26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BDD73-7467-4E6D-BA56-EF610BD7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299B8-F05C-4C98-9917-283A67BD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4CB21-2647-4675-B950-3BC5FD64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15075-C830-426F-995A-340F58D5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36043-A9E3-4FB9-A164-810ECA9C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0BF1A-875D-4708-A92A-7D43708E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9F5-304E-4B1D-9E20-BE971F17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F9CFF-391E-40A2-8783-E7BCC825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245E2-39D6-475D-B3E0-1F8AD415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16947-CC95-4F56-821F-8E024A45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C40B4-7F96-49DD-9B13-BF64CE70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3C7DC-D2F4-4E58-BE0F-925E929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A3EC8-9DDD-4798-95E4-23A0660D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3B393-1C01-4A1A-8915-6542B93A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6D547-BAA3-4286-B7BF-EBB9BA2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AF61A-DC71-447C-A489-C8D8AAD2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8B749-E24E-4143-A901-9A59C87E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5DB9-043A-441D-A98E-92B2FD2F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00B6D-CF78-4130-A3F2-A8538EF5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AC810-93B4-4F67-81BD-01A89C70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0F461-FFE7-48B0-82C7-DD740655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B0DF9-189B-4B16-87EE-824E0FAA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23613-936D-40B1-BA6E-5CDDD7F6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535BB-B3CF-414C-991E-921B554D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A3419-EAC7-41C4-A095-051D5DC9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3616B-76CD-438E-9817-63EB08F4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D1262-D1F1-4825-854A-A0A049D5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50BAD-853A-4CAE-BE62-043D7952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D966-CD3D-4ED8-83AA-6F22E373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8ED74-F07C-44E7-99EF-F2BB6D90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5B3E4-8AC9-48A3-B215-8B9FDAA8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6733B-988F-4912-92EF-F82881C4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B29C8-F0D7-4C31-8209-60761C1B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839CF-25EC-4BD0-A3A7-327572E8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14167-50A8-408E-897E-FF63DD97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FAD68-FD58-4CE9-9A71-5D86B188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C11CC-72FD-45F2-97C9-C30FAE0C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B9400-A89C-453E-9FA9-63F43DC0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76096-EE2C-422E-AB13-654A58F6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8774-FA72-492E-B5E7-0DD92152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B530F-932D-4260-B148-943225B4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611AA-631C-4FE6-B29E-2E921C16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8B8AF-165B-4733-9934-5068138C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39323-9616-4B8E-B1EB-EC9A3521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EC52E-0E37-4A1E-B196-0BCD903E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E05E0-A60E-4A75-8E04-41AF82C7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1F25A-E6B7-4946-A5DC-14D47531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68609-BC55-498D-BFF0-346B7BEB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139C6-4534-40D1-B082-6CBD2B17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38F65-1C9D-43E1-B9D7-CED6809F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A6D5-1B6F-438F-8F1D-99E18C50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55E23-ABF2-47DB-93E4-D6358C8D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923F3-C8C7-4DA8-8E06-53E8B53B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11D6D-E226-4848-9FA8-93A8F7C9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D87E1-62BB-41F9-967E-78E9E43E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30266-76CA-4D29-81A2-B974272A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209BE-2530-4344-82C8-201BD4E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B9C81-A76D-4E4E-97DA-3BD43D0A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C493C9-740E-4BC4-A619-2D7451FC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B97D1-ED16-4D32-841F-9A4372EC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20FB1-9063-4144-9D86-48A85C78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9BAD-DE3F-4D21-9FBB-10DFD110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4CDB7B-66F2-4A2E-928B-BABE1E7F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1406E-DA10-47D8-8AD1-38AB6427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53A16-D2FB-45AF-A3E8-F1CDAF32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A57ED-B031-4B3A-82F7-3E9055C0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C318C-735B-4227-B8E3-0DA05F6E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BA5B9-ECE8-41AC-8500-5CBD596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848195-1BD4-4D08-A53B-0FB98E4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4205C-5B89-4289-8997-6DA7C211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04353-78CE-4615-8BC7-D25251F2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E9726-2A6A-4069-BC2E-069616FA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9515-E020-4704-96E5-147642FE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74C8D-9F4D-4E1C-AA06-E657C29F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6708C-08FE-4107-970D-F410467C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BA435-D406-47D4-9AB7-82407B58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68FB2-DA81-4A77-ACBC-BCDF724F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EC20A-90C0-4AD5-8FF9-6098CBC1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CDEB7-C831-430B-B505-C7D44696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ADC01-8AEC-4AA0-9782-C81EBC9E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35276-A5F7-44D0-92E8-ECEB4382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F528D-8CB3-43DA-BB7E-5CDFCDD6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092CFC-0C80-4891-8245-B5D9D2DB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F6FC-1E9C-4AEE-8472-A65FC99B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221DE-FAB9-4500-892D-DC17C88B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1AB7B-95CF-4BA5-989A-A0BC9AFF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828B4-B94B-4B56-964F-AF97495A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169A4-87CB-45AA-AD68-60CBA270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E02F22-6C20-4F5A-AA8D-1DF5BF1C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D8CE1C-DC2B-41FF-BB9D-35899ABA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DE6A4-D216-4CDB-9F18-4727CC7A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0EE46-29AD-4956-8747-34440DED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9CD63-2780-48C4-9F33-F22F3616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3909A-432B-42B3-B334-B00CA5F6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AEC-A5B9-457D-A18B-0AAA44F1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932F-E671-45C3-BCC2-9ED7C08A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647F5-1202-4C67-A777-5A459AB3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6A977-648F-4D37-B82B-22761E9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2DF4F6-0E2F-485B-AA14-7F3A58A3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48A1DC-8955-4096-B31F-8E78DB9F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837F10-54AF-4CF9-879B-6E28C938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D0EB6-CE9D-42AF-BA52-DC500790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0B3F2F-2801-4CAF-B3F1-406CFF8F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1AC39-AA98-4F42-9B28-85B619FC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4A7DD-25D7-4329-BBBC-47D0CC7E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01214-8747-4E63-94C4-23D1633F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2611-8881-4562-BCA9-B191A32E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9E078-679C-48E8-801A-70DC7E0A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9454F-0BD6-47BE-AB4C-F8788616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D134F6-EBCE-46D6-BCD6-434DFEBB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0FFA3-B246-4C52-8E0D-31FBFAA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98167-9B22-4BF2-BDB4-A48EA28B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776247-6E72-48FC-B3D9-5B8A95AD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FE037-2A7C-4D76-9F4F-68849641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B84A0-A6F9-4BC6-BC25-7607B24C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996AB1-585D-4223-8B0C-29A3EDD6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6EB02E-6128-4185-B72B-6CAC3E58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8889-7B80-4DDD-8772-872F1D58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DA65A-04E4-4F6E-99AB-2E7831C9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C33B00-FA6B-4BB3-AC84-C109B122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33EFB-7433-45A0-BCA6-366A3B7A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B39C7-F98F-47A6-A35D-0C148783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7E14B-C894-48D1-8FF8-9A3E2EAD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32E2B2-8C61-4C50-8AFB-F2F4B235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50FD41-F4CD-4305-91EF-802A2CF9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B2487-0114-4E0F-8BE6-5D919332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933A17-759F-4D65-83B7-718F3B3D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26E54C-8242-4578-9F4E-F45A8941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987A-BBCC-4DC1-8AD1-4670881A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76C091-4ADA-48C3-BAB2-DB186F18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28C091-C1C8-4379-9B74-72CB94D8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56FAD-C939-4F7B-9016-FBE68B32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28220B-313B-474D-95BF-8F49A79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49D3D-CD6C-4C80-868C-040B0AA6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4A2552-F1C0-441B-9BD3-817C45C1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56A0FE-EB88-4211-91E0-07CBAF10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0A9998-AD26-4A6C-9992-E7D4CC38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C74341-9877-4C9B-BE9A-CBBA1832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097811-C437-4E99-A185-6C52EBAE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C870-2E44-4089-8F69-BA2BEEA4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C7803C-01D2-431F-8F3F-D07C504B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EE2E27-E98E-47CA-BC43-80718D09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4D0DA-6735-4EDE-AAB2-23BE679D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797119-0B4F-42F5-9D1F-4DDE1946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D0F41D-C726-45FB-B7CA-8BF678D1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095CE-57E1-474B-AB3E-5C5870E3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B8F0DF-1AF7-4E71-8DD6-56E47654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C76A3-5CBB-4134-A7E2-FB3F40E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39092-39C3-453B-8193-F72586FD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636AB-D273-441E-860D-D704C913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09A3-8735-4503-AA84-2C675A46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55131E-A8F7-4CC9-B716-E6371AE7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7E478A-6DDB-490F-82A0-DA934C28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50AD3A-8AE0-4CD2-B205-44AF7305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98EB-FE55-4BEB-B4B6-54A48EC1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745E5-7B84-462D-8052-B3CB6AAD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DD39-0466-42C5-A7D8-A8C762B7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7FC8-5CEC-48DD-BBD8-7B5C791C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597-0C60-4F4B-89BA-CDD9A6C9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D0B95-289A-48AC-A15E-A26F5AC2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5C36-6709-4205-8AC6-0BE421DE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132E-4D78-4BFF-88FA-29B4C681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C0FD-FF5F-4091-B4ED-66453692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554BF-4DEF-4689-96B9-D905641D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2050-233C-46FD-9EB3-7ADFF119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CDC9-8733-42CA-AECB-1CA82E5D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42D7-0799-4004-8553-E6C0CFF3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3CF0-10B5-463B-B520-BFC95D47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EF95-6DB8-4411-8DEE-3A0E07FC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30A-FB2D-4F72-94C8-CDA6442A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561D-9129-48DE-9464-CB3324AB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5C0F3-7CCE-4F7B-80EF-2E5CE9AA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CD0F6-077A-498B-8C3D-CD9D6B13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E77B9-4A34-418F-810A-18B9974D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2254-C038-4752-B6C2-90E85ACA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9447A-9020-47B7-BD1E-B829656D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B9B58-FB09-4F51-AC71-4001DF5A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5ADE5-A71A-4D37-97E3-FBEA6E65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921F-4845-4728-BCB6-540B84B4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8F772-936B-417D-A18C-4F8233ED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CE6-203D-4F71-9755-B327877C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0465D-CC7B-4628-B5A6-F9D9985D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7798-4514-4E4C-847D-E2FCEB00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C32F7-3312-45A1-AE71-FE2B3027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F0C2-65EC-460C-9D14-1BA48AC8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498D2-4E0D-4AEF-A67E-3050DA99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5563-FC51-45A4-892E-77B9FE25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78EC6-086F-492A-94A8-DBE3D1C2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1C6C7-1636-4D29-85AD-FB1B72EA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72E0B-B0B5-4592-8F54-803E7862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1E9EF-0860-4D23-AFF2-59143559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869-1068-48A2-8111-36B88F55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D53F-76E1-4B10-85AF-6D24ACB9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A4DD7-5DB7-48AB-B423-F8DF3E41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FA4A1-307C-4E0E-8858-93CE6348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DD753-2550-41A9-A8AC-E42DC8F3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400C9-471B-4924-8976-F43A50A9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7E21B-951A-4BED-A862-F1656D66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9A7B8-42F0-4371-B35C-EA35BA6C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6DB23-6EC6-456A-9F3D-5CDCFCF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393E-A85E-4D2C-907C-CDCE287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6C542-C8A3-4351-99DB-D494A725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9B0-6AAF-415F-87B5-47DBF850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C0ECA-8F11-49B9-BA03-820297AF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75364-0B23-4D87-9FF7-DB26DA0A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59B0F-5B29-4282-A669-BCD015F5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63626-6149-4937-B43B-AC5BCB20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B22D1-AA68-4ABD-81F0-33B171FF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85C59-BA4D-450A-8FCB-512F3A18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C81C8-E896-4544-A5BC-E6FDC02E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E47FF-72CE-4126-A084-D8EF55C2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96CCF-F670-4AEC-9C19-C681F0CD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6F41B-6F1E-44E0-8EF3-E5E078DE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35B-8E64-47C6-BD3E-2BCBDE6E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920FE-8BAE-403D-9885-C881CAF1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B8285-87CA-4650-A044-919161FC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D9009-44A1-4849-8CA4-D2D7AC93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F696B-585E-4FA6-AF88-C806B8CA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DB6A3-851D-4D03-A99E-91E458B2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05D79-1BBC-4469-9D51-FF0C4391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7E967-2D40-4E20-B3F7-0C7C1FE1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93A24-8CCE-4507-8B71-7ACD9A11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59E1E-323E-4025-9816-92BF8C3E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1F6B0-6320-4DE7-B42B-66C2D2C6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0BD-2347-4762-BB19-DBD1CC81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8BB58-247C-4786-900D-3FA38523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6A7AB-1E7F-46ED-88EC-3B5711F9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18849-FA98-4F3B-A9DA-DE1D40FA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6CBC1-EF3D-4318-B4BA-8C8C6BF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95ED4-AE37-4484-BAE8-85EF3C65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E97FF-A073-492D-A163-41E2248E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33093-DA2D-4CD4-8891-04BE2B3B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CE9FF-B073-40BF-9F72-30FC4F26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A9C74-68FC-47DD-94E6-1F5DF67B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AEA00-2F22-4D88-B0B8-E8217F9D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7376-F701-44C5-8105-482A59AABB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9A39-C7C5-4713-9CEA-0835676E0B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14DF-40EF-499C-A3E9-1E69E04F31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8298-7D60-4785-B3F8-FE1376A74E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C5BB-3DAD-4EAA-ABA3-AF1DFDD9E4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BFAB-A60C-4DB0-A056-3B6A42A6D3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3C8B-C05C-4EE5-94E3-FB7F083914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BEBC-AAA6-4F6A-958B-74DE8423A6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7274-3D6E-4DDE-8BDF-27B2153184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58AA-8134-4F22-9DA4-1C8310F27A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536D-CC4E-4F90-B6FC-B7D1FF72F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45D5-F03A-4C92-BB67-BC3407C55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6578-F328-472A-8A06-C8615A3193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9C28-003D-4963-9286-35DA699EC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0271-C014-4391-97EE-43EDE98C5C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6D55-B477-4508-9E4A-EB45FA699C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ADFA-37A7-444C-B5D9-AE51FEB47A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009C-D0D2-4FD5-974D-1837B224B7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0A51-E869-49A3-B802-7029E1AB9E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9197-8361-4FDD-9517-59F34A0DFA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88B0-231C-469A-B01B-4DC23EA351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B70C-17BF-4F73-AC15-C7FAB4D9F6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1EB1-8816-4FF1-A185-90893D0471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D3AA-9538-4B54-B644-F88966E545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730F-AE8C-4212-B8DD-A4B0921D58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A333-90C0-4206-82D4-7F0BCC7BE5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D743-90B5-4103-980D-A714B5E0D0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9097-AE59-4E42-B497-8DA0DCF554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FB5A-0A0D-4876-8BA6-859254F9B6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4EFD-28A8-44B4-BBB9-C65307745C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9223-EAEF-45DA-A8B3-5337E8CF2F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179E-2EC4-4C50-AE90-C6FFDBFA5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5083-9488-48A5-9875-8E81E98471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7A3C-B001-4BF5-AD9E-9FA51F5A96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E06A-6B99-436E-83EB-F569D5B9AE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F979-D37A-4A5B-8865-BCF62AABE7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D561-D54D-4E45-9BD8-86EF472640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BA76-1AF5-4443-A9E7-408BA37659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FC4F-4318-4C66-9940-4CBDD55C54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7DBD-323B-4D62-852A-9122583010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00960" cy="13338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56577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43080" y="743040"/>
            <a:ext cx="8458200" cy="5371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1512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4859280" y="414972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156360" y="414972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451640" y="4164120"/>
            <a:ext cx="108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961920" y="928800"/>
            <a:ext cx="7220160" cy="5000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816440" y="16146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248436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6703920" y="3357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4268880" y="5516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404640" y="1228680"/>
            <a:ext cx="8334720" cy="4400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5148360" y="1930320"/>
            <a:ext cx="244800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7093080" y="3284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675480" y="3730680"/>
            <a:ext cx="17128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1763640" y="4149720"/>
            <a:ext cx="43200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3348000" y="4149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5435640" y="4581360"/>
            <a:ext cx="216072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2152800" y="502776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314280" y="1014480"/>
            <a:ext cx="8515440" cy="41432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7353" descr=""/>
          <p:cNvPicPr/>
          <p:nvPr/>
        </p:nvPicPr>
        <p:blipFill>
          <a:blip r:embed="rId2"/>
          <a:stretch/>
        </p:blipFill>
        <p:spPr>
          <a:xfrm>
            <a:off x="900000" y="5291280"/>
            <a:ext cx="7944120" cy="1162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97964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2843280" y="373068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2268360" y="439416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6877080" y="53006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6877080" y="5950080"/>
            <a:ext cx="7905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266760" y="442800"/>
            <a:ext cx="86104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590400" y="115920"/>
            <a:ext cx="7653600" cy="6573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971640" y="1355760"/>
            <a:ext cx="460836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042920" y="1989000"/>
            <a:ext cx="460872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042920" y="2593800"/>
            <a:ext cx="460872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1114560" y="3227400"/>
            <a:ext cx="460836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1042920" y="3846600"/>
            <a:ext cx="460872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1114560" y="4437000"/>
            <a:ext cx="70578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657360" y="1838160"/>
            <a:ext cx="7829280" cy="3181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116000" y="2549520"/>
            <a:ext cx="755964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755964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042920" y="3860640"/>
            <a:ext cx="755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539640" y="3862440"/>
            <a:ext cx="8058240" cy="194292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52232" descr=""/>
          <p:cNvPicPr/>
          <p:nvPr/>
        </p:nvPicPr>
        <p:blipFill>
          <a:blip r:embed="rId2"/>
          <a:stretch/>
        </p:blipFill>
        <p:spPr>
          <a:xfrm>
            <a:off x="1042920" y="1366920"/>
            <a:ext cx="6991560" cy="19908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211640" y="155736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211640" y="242100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7351560" y="155736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7164360" y="249228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1908000" y="400536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1936800" y="494172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4788000" y="407844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4932360" y="492588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7740720" y="404820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2"/>
          <a:stretch/>
        </p:blipFill>
        <p:spPr>
          <a:xfrm>
            <a:off x="7899480" y="4941720"/>
            <a:ext cx="503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6:1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