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53D-F617-48B8-81B0-2E41CBB0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C89-AB36-461E-B9AA-FB5AA63B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EAA6B-2686-422A-81B3-8BFD1946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B4950-D774-4246-8139-02CAC785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BC4CF-6511-4F48-A552-3F1BF1C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BB844-4886-450A-8110-17BE4AE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3D544-EAF6-4C74-B1D0-8DFA470A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7891E-0D1F-461F-911A-9C4B282E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48709-F503-46C6-A8B6-9A8E7669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0857A-6D66-43D8-8894-3D433FB8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0F207-FBBB-4A66-99B7-E12EBE19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EF1B4-9922-4A68-92D2-72C921D1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87B-A214-41F2-97AC-83AC1258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79916-8A83-4DFD-A192-53446EFA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37687-703C-44CE-88DB-F7C9C0A8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2721F-AB0A-4313-8FB0-C3B4AD5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B8C05-CC4A-49EA-8F8A-8F90793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EC40E-EDF0-4FA2-95A9-B2BA0E72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F0D04-5321-4F5A-8660-E8C5658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C564-060C-42B7-A9C9-E0FDD9DD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A2FF3-0C09-45E2-A2E1-36DF1C9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83079-75CC-461F-88AE-9C7D9E85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AF530-2191-4301-99CE-6C14F1C8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0A3-1DF2-4AC0-BAFC-D9D93D67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BFC1-7D8F-4FAD-8C92-A6A79706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40949-4F35-4DB1-8C3C-9833E754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C2183-4764-45B9-838E-DCCB4458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FCB71-726F-4282-85BB-63F890D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63982-0CB0-4842-B99B-FB519A4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8D1F7-C2CA-46AF-B93B-4679F417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CDED5-75C8-4470-8189-8FD7105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2EDC3-EAC8-4298-80D2-7892532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892BB-3D44-4D6E-A9C1-7E7069E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DEAA7-EFE9-4700-8CE6-92F111B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0AC6-9CC2-4B74-94AE-7A72BB90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3E6EF-5F59-4B96-8C47-11581A49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E9C08-C17B-48BC-8808-CAF25AAA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F80A9-E33C-466E-A007-64B4869D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76B43-CCA2-4A92-AC23-5623196D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E2515-09CF-4389-AF9C-0C2DFC4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4A577-D1BB-424C-A62B-C608197F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AEDEF-E0C5-4839-B97E-9734BF9C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45E02-D828-4547-B245-381FCBC5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DCC2B-134C-4DA3-9F62-86C128F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267A2-6269-4125-BBA5-B25D2CFC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48A8-63D3-4313-90D9-33825523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38BB6-39F2-40D3-B062-6D74C31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E354C-6134-4C01-BD27-6523D4D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4BB4B-7D52-4D42-8B3A-41AA9E50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017EA-BEA4-4036-87D3-DA3AB455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3E26E-F2B7-4737-9B67-34335525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52EDD-0C46-4E8C-A50E-B4D411BF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B4054-F76E-40B7-8447-C5F411F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E42D6-9330-48AC-B95F-D25D10A1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75129-E569-4B3C-856C-4778A1A9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587FD-167F-40A0-854C-FBF1A96A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E38-7ABA-4B96-8696-F61BB7E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DE6B9-5817-475A-9CFF-A47650DA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995C7-65F8-4963-9ACD-D2EAD75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BB6A1-5141-452A-B397-CDDC4B6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00C9F-4515-4BDB-8E4F-E5FBC1A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EA4FC-7853-45F3-9BE1-8DB5FE41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DC721-1627-4EA7-A6DD-01EC7A2A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A1DEB-A90D-443C-9BC6-EEE7197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967DC-11FE-46EB-A7B8-1DDFE8DA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E9C8A-2E9D-483D-A8DB-E196401F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BCDFA-D1D1-4B08-9758-CC5C4B2E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706C-2E44-4F60-8BF8-2C472B1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2141B-0C9A-41AC-A06B-D3A04850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2E604-3CB6-4BDD-A3C9-45B83526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E3F1D-41B8-4A28-A985-7D309A6C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0B71E-2AA0-4261-AEC5-05F8822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7DA36-E2B0-416F-86D0-644C9DA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5514E-3D1A-4E67-896B-F071778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10BCC-0A74-4464-8E85-962257B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2B010-CBC6-4B71-8040-68DA5231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D37C9-096F-499B-869A-9A5DCCCD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7AE88-549F-4EA7-B7C1-8D521F68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6BBF-E153-428F-8857-A4348310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B11C1-EF81-418A-A624-F8B68A7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116FF-F49E-449A-B02E-B257418A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F67DC-7EA2-432E-A7AD-8C00A6D1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C927F-83D0-498A-AAE9-D4268093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4AE22-EA8D-40F8-9D07-594FCC19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94714-9665-4529-8EF7-31B8CDF6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794C9-43FE-4CD2-9EB0-42AC61F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C6179-6379-4D58-85A8-1FF55E7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8F7C1-BA22-4BB8-8DBC-C5BDB8DF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F4A7D-0042-4E48-AB79-0A04C025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4FD6-7341-4892-8133-3ECBF3C7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92C3D-00D4-4514-9ABE-6865C39B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F0FB7-5850-4A27-A7BF-F9FC81A7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7C223-E7EE-4718-9446-B58C399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69731-8FB9-42B8-BFE3-046434F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5FC49-C769-4EB6-8EF1-8BD80B8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77C58-C747-4920-8BF7-50DC8DB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6E6E9-6210-47E4-A605-DBBF0F01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F21BE-ECED-4FD1-90CB-8F08CF5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AAFA6-2039-4562-B447-6561A361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785DA-8FD1-454D-BCF0-6AF6660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0E45-09B7-41CF-B3B0-A8375BD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05914-505F-44BD-A074-F0B5499E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36555-FE19-4619-9398-0C90586E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81CE5-5D85-4709-A1CE-E6DE2730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3434E-4D0E-4C69-B7B1-8511DD57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B352C-40FD-4711-A04B-FECDACD8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DC5A9-A4B2-4888-B57F-F8F76D9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BAEF5-8249-426E-99C7-4E48B74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39A82-5594-4FA6-B35E-BB855E7F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697A8-E779-4C57-BEF9-C9128CD7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23684-ABDE-4C30-8C90-FB4A95D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C10-377A-4158-9C6B-5E6B40B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A081-FF74-4962-AE0D-BEF74298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F6BB8-CFD4-4D2D-A51A-0EAA9400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93372-EDF5-4FF0-A461-C187AF9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2367E-270F-4ED1-AAD2-A7162F5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3AF62-FED7-4E3D-975B-00E8DEAF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4FFBE-B1EA-4922-A453-1FA46B31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67C330-C1E8-4D70-AFCB-37E836E1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240BF-76D6-4AA4-A4CA-83DA900C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47088-76DC-4FA9-AE32-4CBE316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D2F6F-42AE-45E3-81B4-83F66205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627B49-D5E1-4BA1-A7D1-5D240AD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D89-6C3F-4C63-A788-722AC7B5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2CAD8-BE6A-45ED-9270-32EB25F2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0B8D0-1699-4FA6-8996-BD2BAE4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A71EF-B21A-4B46-9329-226AF8C7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53E0B-12E7-4934-A67B-C97F332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FBB9A-072F-4DA4-8D1F-86837FA6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20EB5-159B-4DCC-86D3-2CC47FD2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B4BE3-D9FF-4A70-B381-DEAF3223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61C5E-6D52-4E3A-A02A-F0B49F56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D1526-164F-43D2-9815-3780368E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D08F0-3C60-47BB-8690-6589AC6B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160-B0DD-4C40-B5BC-B6D656B3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7793CC-EE90-4C96-8B38-2482913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B78AD-75FE-451D-A107-1588EBD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B3DD0-67AE-4561-88F5-34D9536C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4E477-BF3A-4BAD-993C-94114A5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CFADB-FD88-4676-81A0-1EBB7576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9CB99-636F-461F-BBF0-1BAF582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6B473-835A-4F7A-BF79-613DCA9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A4D82-5DB7-4297-B472-5EBEDA64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41264-7F96-42E8-95FF-DB05D4A3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2F0A8-95B8-4116-B9E9-E85496A7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D6EA-8EE4-4451-A346-3074816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3623F-185C-49C4-8650-A54712BF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AF17C-ED52-46A9-878F-F37EEE7D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05C87-5B63-4006-B0D9-4442175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7EFD2-4F89-42FE-99F2-160F9A9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C9E99-DD14-46DB-A5FD-BD9464A9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28783-1174-4984-BEBD-45D973E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C4264-709A-4824-B8C3-68BFC908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A7604-B6A1-4818-949A-DD2C399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54635-C6EA-4A06-8717-E2025D36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80EF9-B162-4D91-B0FA-C27BB2B5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FA92-54A9-4A95-874B-FBCD76C9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AB3B5-DA60-4A18-8127-A9FC7643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7CAE2-EF61-4E45-8871-3E86111D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D64BFC-A9DD-49FE-80BE-0E2C0BA3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CA60F-9788-4007-804C-4A276CC4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FCECA-2C86-4E04-91FE-D1B48E9F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0F6A4-3287-4907-8C9A-99B0897D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E24ED0-56A6-4732-8C94-F1651759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A0A367-F633-42BD-944F-C54B68AE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38F6C-4E7E-4703-AA57-0D6EB3B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0C02A-1D68-4646-9AE8-8238977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97FD-C7F0-4885-949A-46B2C3D5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60ADC-92CC-4234-ACD5-73BBBC7C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C5F13-FEC9-4F11-892D-EC66FE72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9C92B-CF26-489E-8FF8-C702ED58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7521-9C9C-4CA3-988B-5BE58A36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D317-4640-4F79-A789-CBA905CB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52CD-C79C-417B-AE28-B1961BFA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52F4-7684-4780-89C0-B196BBB8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A76-AE0B-4AC4-BFBB-DFDD2C0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6B90-0B9D-437A-B4FB-72B1EBCA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24B6-C8AC-418F-A766-2EE6DB6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A312-10BE-426C-B9E4-54A2B3E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98AF-5868-4EEB-9542-5402734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4487-A286-4D1D-B1DE-EA04AE2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27F2-C8DE-4CC6-B746-FE1D6B77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C1B5-CAAC-4D11-8DB4-F0295B04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3D13-8E6A-40C0-8AE6-3F44B212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E429-7047-45D0-8AB7-4D191C0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A478-1144-4946-8F75-29DFAD9A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367-4C4A-4415-B7FE-43424B6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8D43-F09B-40FA-905E-1459D02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32D8-8B35-402E-83C4-BC18FF09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B036-E21E-4FCC-B54D-1C3963C0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4397-8185-4F9A-A52E-FA65C58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19F80-D914-459C-966B-33DBDC40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603F-FCA7-48E6-9513-4160565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8601-D254-4589-A840-14CC485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58F6-98A6-4DCF-A4E3-56B30FED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EF21-803F-4C94-8F72-EF5D5995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FCC5-D567-458C-AE97-B00744BD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D5A-1825-41C8-AB8E-0BDD6617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D30C-244D-487D-9214-EB04964C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0763-2D26-4AEC-8AC0-81833B9C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0FAA-3522-44DF-99E0-FAAB12E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C1B2-731E-4A20-A31C-355378DC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960B-ACBB-4534-8711-BAE5686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F150-76C0-4B10-B310-DF3009E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EAAA-9DD9-4A26-B7AE-3F98500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534D3-21BD-4605-BFD1-6A426983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6AC0-956B-437D-BEE9-2E3A4ADD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8C41-4DD1-4F6D-A838-76F22E72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49F-440F-4099-84F9-C03BEFC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E71E-75BC-415C-87D9-52E7A9D3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C86A7-E2AA-42B6-A519-C43F0B00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1E26-8B8E-452E-8EF0-10DB37F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6281-374A-4BEA-B914-1F188453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CBC4-9EA6-4B22-83FE-671DA91C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B12E-BEDD-4783-B85B-F562EB7A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5752D-F1D9-43D1-BBBA-3F6BEDF3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B43FC-969C-42DC-839A-D7CE6B5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6C8A-9C57-446A-8F70-5E34A26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E0AF-8FC0-4D68-B01C-4AD7D040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021-0CD4-44C1-B98C-5F17E1C3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D9E6C-0E5C-45D5-AB5C-46515B08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7E20-CBE8-4850-A2DE-FAA9BC35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4D125-558E-42BF-8E12-C4065F6A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71CF-C56A-427A-9C46-FD30139A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F810-0C97-48E4-B682-F3C652B1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6CBC3-5E58-40F8-A97D-CD9FECB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CCC47-98BE-43B4-B57F-860DCBAD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7B894-867B-4E4F-BDF6-C045B05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DA7F-5462-4955-9C5D-531B7DE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0F1C-80BE-410C-83DB-48E639C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1D9-DB12-4B65-AAF8-6629E56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8BFF-D097-42AA-8FF9-411B7A7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6AFE6-984C-4B20-8810-134E704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A3651-8120-4FCA-80E2-E04C4DDA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8DB1C-14D8-43E0-9953-651084B6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22EF-388F-4611-ABBB-1BCA3CDE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2A313-E917-4312-80B4-E281E2A2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0B44-A2D7-41F2-B724-331842ED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364E2-49A6-4F7A-B886-DED525A8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1EC0-82BA-4AFE-B679-8C6DA61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E5B0B-33D7-42CA-A3EC-DEEF4F97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BFA-D6EA-48DC-8EF5-F08260C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15160-32F4-4C25-938A-0F455A12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1063C-4B86-42AC-B1A1-5231B30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EC488-F2AC-48EE-B402-596EBDD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33ABB-EA8E-47F3-8ECF-DDAA381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ADEB-CE0F-4909-94DA-488A5863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AF2B9-59E0-4644-A2C0-4125C241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E6C25-BB4F-4A72-8372-62D4EE2F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CC544-BE2D-4140-A333-8EC326A8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BD782-492A-44E5-AA6E-26744C7E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8C95F-A6DA-4B63-BE7F-691D1DE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C3C-A432-4AFB-B80A-38B38321D9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191-EBD9-48F0-A594-5D91C5DD0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551D-A55E-4279-877D-2BCD0DCDA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8E5-9B8A-42DA-85DC-5D24DA082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1926-584B-49CB-8286-D556983B7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50E-2F78-44F6-BF41-8108EF1DC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9824-91C4-4EAD-9536-0BCFD4D85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6585-FB2C-47D8-8859-BE410077B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C058-DF83-42AF-8A9D-638DB2CE3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9DDE-2FBD-446F-B760-60C5B73D7B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91D5-0113-4456-91F2-887EABC61F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C9F-5265-4973-B9DE-0983D64FE3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0823-F1AF-4C72-9301-2BF5D7E46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FB1-AD73-4F61-83DF-AC57CCE11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B9C5-E413-428C-B754-D381142AC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644B-F8B4-4CEF-B050-4B59E3C79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04B-A448-4D90-A599-099141ADE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ABAD-2594-45EB-9F6D-EBA16D8ADC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7586-3634-4B4C-8BBD-DDB86ECBF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0A7A-D95A-4137-B514-24E722E73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01C7-5FD8-49DF-AD71-406B31969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5E8E-85ED-4CBF-94E2-B3840A71C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E113-BE54-4E14-ABD1-0EFF17812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3DCD-3C22-40BE-99CD-2A4A7F3C3A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3DB0-F7B0-450A-A527-16CF5D88B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820D-91D8-490F-892A-EA97A6B941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1D0-33C8-41D4-9B2A-0D16E7CE1A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E041-DD20-4710-A037-55148EFF94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631-4B81-43F3-8D84-FFBF49B6BF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4AD-2C22-4C95-95BC-B5A8C2F48F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221E-DDE3-4910-9820-369496E8B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6D0-B9EB-41A9-A2A9-C6558AEAC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CFB-CD1D-4ADD-8F98-6762EEB16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DD64-9AF2-42B2-9115-71445088C2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333A-C888-4C90-A334-22F516158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63FB-415F-41CB-A554-788C7410B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2E22-8859-4A7B-A8E1-E114B113F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EB7-3268-456F-B8FC-951758D01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D78-0B8B-476E-A235-1DF1D685B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62EC-9C1F-4F5B-97F4-B78A1E9187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61840" y="2752560"/>
            <a:ext cx="74203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281160" y="181080"/>
            <a:ext cx="8581680" cy="6495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252108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826920" y="322740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5472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813744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11280" y="6149880"/>
            <a:ext cx="8137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781200" y="981000"/>
            <a:ext cx="7581600" cy="2276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8610" descr=""/>
          <p:cNvPicPr/>
          <p:nvPr/>
        </p:nvPicPr>
        <p:blipFill>
          <a:blip r:embed="rId2"/>
          <a:stretch/>
        </p:blipFill>
        <p:spPr>
          <a:xfrm>
            <a:off x="538200" y="3351240"/>
            <a:ext cx="8067600" cy="2238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956720" y="141300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226040" y="2276640"/>
            <a:ext cx="10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7639200" y="21477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008080" y="363060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4802040" y="3645000"/>
            <a:ext cx="1008360" cy="718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8186760" y="36306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2036880" y="4437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5205240" y="44942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8172360" y="449424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976320"/>
            <a:ext cx="85629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38200" y="1276200"/>
            <a:ext cx="8067600" cy="430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924360" y="2060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268360" y="2736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12400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85128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219564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64328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595440" y="1157400"/>
            <a:ext cx="7953120" cy="4543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862680" y="1801800"/>
            <a:ext cx="719280" cy="436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916360" y="2290680"/>
            <a:ext cx="576000" cy="374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804000" y="2278080"/>
            <a:ext cx="1081080" cy="401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867280" y="2665440"/>
            <a:ext cx="1729080" cy="436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5435640" y="4595760"/>
            <a:ext cx="936720" cy="374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3822840" y="4984920"/>
            <a:ext cx="93636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9880" y="797040"/>
            <a:ext cx="8544240" cy="580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726320" y="2349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667640" y="3789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667640" y="59929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09480" y="2747880"/>
            <a:ext cx="7925040" cy="1362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85960"/>
            <a:ext cx="8572320" cy="50860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1" descr=""/>
          <p:cNvPicPr/>
          <p:nvPr/>
        </p:nvPicPr>
        <p:blipFill>
          <a:blip r:embed="rId2"/>
          <a:stretch/>
        </p:blipFill>
        <p:spPr>
          <a:xfrm>
            <a:off x="1033560" y="2552760"/>
            <a:ext cx="7048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633240" y="838080"/>
            <a:ext cx="7877520" cy="51818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54277" descr=""/>
          <p:cNvPicPr/>
          <p:nvPr/>
        </p:nvPicPr>
        <p:blipFill>
          <a:blip r:embed="rId2"/>
          <a:stretch/>
        </p:blipFill>
        <p:spPr>
          <a:xfrm>
            <a:off x="2300400" y="2328840"/>
            <a:ext cx="5371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00040" y="1633680"/>
            <a:ext cx="8143920" cy="3590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458040" y="4581360"/>
            <a:ext cx="115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9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