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A29-2260-4ACE-939B-14532274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40F-A736-4CD4-AEDA-5F8667ED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284E4-8DA5-458A-B889-7C68FDD7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7600E-15B4-4064-92CE-3C2C1A64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7F6C5-C905-4DBF-8AB3-31BA2E72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91636-AA05-4043-814E-C259FAB1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4DFF9-6CAE-44E4-B8E6-6333758D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65A8E-52C8-4978-8D82-895E553D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BF459-FDF0-4F7B-BB24-99534F3F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54F0E-947C-45A3-8DC0-1557F0DC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C35F2-945F-4653-9418-5C77973A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BA8B8-FF12-434A-A34D-0AF47A7A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DEC-A4C2-4E01-8FED-ADB2A695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DC6A6-CAA6-453D-87E3-92668A3B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41476-D563-4248-B19C-2D9F9581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16C87-7637-44D8-9108-A28ADE99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FF3CC-FD2F-400D-A7A9-FE03C2C1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E54F6-5EE0-4F8A-A64B-42CFD1BC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8845E-8E75-4569-B04A-B48FC463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94310-1B75-4299-8618-574683CD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B2329-52FD-4F22-BABA-2D5775F7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019D0-C934-45CB-B2BC-1111FFDE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6F876-E741-4B26-A52F-DAC8D71E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FF9-7A42-489F-8C15-7A2E6A4B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DAB0E-F414-4E94-A73F-9A0ABF80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A0EE3-0E87-451C-8D52-F83452C7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A36C1-1492-417F-82A1-5B14ADB0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601F9-255E-4A1B-BE4D-A65339D0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4619B-821B-4F58-8377-71CBD231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90655-ED6F-4F4E-BD9D-F8462B40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2B908-7F84-44D7-A439-44096F4D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B547E-26D3-4FEC-8B98-7FDBD97D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770A9-57B6-4497-8804-2BC9266F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48951-F9D6-4BF9-9F99-3D1C908D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3BCE-5015-4809-9646-07A65687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32901-F219-4963-A4D2-435F6329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123F6-1809-46CF-8593-33A0F51A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AD7E4-3C71-408B-9AA2-C8F52BA5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0DAC8-3409-4339-996F-41F70A84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4BCEE-9173-47AE-869A-E870A765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416B2-708E-4FEE-924C-9A07F103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D9592-1DC7-4B1E-9E27-ED4D87EA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14383-B842-436C-BEB8-3E7307DF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8AF94-26B1-46E9-A3C3-032021B1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AAE29-0A37-4BF0-880D-8E40575F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21C5-4ABB-44A7-ADC9-EA0E3323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C89FB-2737-45FD-B4F4-FC937461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4AAC6-A68C-434E-A21C-CD251DD2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70788-78C0-4979-B3A9-BFEC7D7D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A1673-ACAE-49EE-8E1C-EF6663EA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BD8E5-2D9E-4324-9042-379AE3DC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07B52-3D51-49AE-9AC6-DF5A2E98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ED62B9-7DCC-4D28-BE15-837E3065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F32C0-2AB9-40B0-A0B3-C5AC334E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F753B-485F-4FC0-B074-19652E67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6554D-874B-41EA-A70B-39C0D4D0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0C1E-075E-4791-8A34-CF05595A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B1E13-2209-43EB-97EF-4B3AB784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82E6A7-1EC1-4B0C-A4D3-94A2CC2F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D57BA-CC0D-42B7-AF15-57C320FB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8BD5E-0709-4F73-908D-262148F4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39432A-396E-4ED7-B98D-61A82822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6C63F-B40B-4FFD-B764-E863D56E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3D2C9-1E52-4F45-926D-6CB987A5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452754-8BC1-417E-837E-F354C3FE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B2F4C7-BCDA-4F2F-BACD-026DDE4B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47EEC0-CBF0-4897-8F2A-DB89784D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5E55-02BF-42D6-A494-C95DFE03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0460E4-4490-4A04-8ACF-A813A651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ED4C5E-4E6B-4FCE-926E-0CC8B8EC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601838-0AE6-4738-9675-DF717B53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295AF7-727D-433A-A236-8139E6B8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F257D1-F725-493C-96FC-D7C68487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27E90B-53CF-4638-AF85-F2BBB6D2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9D28E-6F39-4405-8D3D-878A025A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D6E3C2-94F5-47D4-81F6-8DA5D636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50E0D-1C12-473A-8B5C-82206A0B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CCB34C-5315-48FC-BB0A-592AB8C2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1E78-89A5-426E-BFFC-A1E72242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CAAA37-A1FB-449A-9985-F189FCEE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85C1C6-7607-4B17-BBE3-09DA7B27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D4E319-ADAC-4E8A-97E6-CAB879A7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1AF9B7-571B-434B-AE08-2027C1F9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817201-1800-4324-8E3C-1BB54EED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706DA8-A05E-4D39-87EF-45CCA6EE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40D9BD-25C5-4BCC-80B9-3CFDCCB3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99AB44-7262-4C19-973B-34DB2979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69108F-FFB4-4C24-875C-B63DB20B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60C85E-27AF-4031-9B8B-4535A4E5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E00F-1FF4-43B4-89FB-6BF97773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F4DE6F-3701-4E8F-92DF-4050774D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8E063C-7D24-4561-AB12-3501478E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53CA4C-71B4-4588-8940-DA56219F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0840EF-037F-451B-92BD-510FFC97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C44988-7876-4FA3-A1A0-B34FBAD4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2754ED-0396-43FA-8600-89413379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95357E-67D3-45D1-8B16-C742764A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043304-C25F-4281-8F51-AA978326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E841C7-6AEE-42DB-88A2-D8089F4A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9F89F7-3CD6-4F0E-97CF-658FD007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939F-B5B3-43D7-9D1A-6B620233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F280A5-BC26-4ABE-978C-53A67667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49FE4E-B74E-4DEF-ACCD-592D9B92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962D35-8185-443B-82AB-D19F5D4B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CBB79A-4A58-419C-875E-929E29A3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C6296E-9B55-40D5-A60C-497905D5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F2E19F-0DD6-42D4-8503-05F54D79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9D08F6-F6D2-4E7D-8480-634E6101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735546-DD79-4D6C-AEB2-B4A02904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5288F4-709C-4417-9E50-29E58449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10A3D4-D978-40EA-AEA4-C886C851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4F7F-3C4C-4906-B2EF-F90626C3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E6A2-5FBD-489A-9B0E-492ACF11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4DE47E-791A-4934-9107-3DB11AA9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A3E1B8-8E2F-44D5-8FAF-AD53F5DD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91224E-91ED-4F75-9D74-7192F972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CCFBF7-A716-4DDF-9F26-B5A9889D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EACFBD-975D-407D-9E67-9560B5E5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1FDC1B-8E3D-4627-8C86-07E1629B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F70642-C9B9-464C-A8AC-7C437BB7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6F1DD2-8A93-4948-A3D9-1B97F45D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A40935-3B64-4F11-9C9B-35A7E0A4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F29501-594A-4037-93DC-5A3A1EAF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EFAF-2A13-4B7A-B750-832864DD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6CBD6D-75B1-4104-9ABE-3BB78372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3DA995-AC1B-46AC-A7EC-B384C229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A500EB-5B2E-4F22-AAE8-D9565D63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7D5A3D-2138-4C21-BADD-97C54A59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D63014-92E0-475B-8CFF-E530A99D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33BE8A-5195-4BA4-91F6-C83EA45E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39DFFC-618B-4CED-AAB3-3A0FAAFA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875A09-489D-476C-BD75-6ADF0303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0AD076-C5B3-4B1D-AA45-5C1B51C2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771F8D-C721-4F43-A310-84E3345D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6376-18BD-4A25-B2A3-27DF3CA3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2E4B8B-E90C-412C-BFB5-617FA895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5EF633-8CB5-4D28-BA0E-14E02C10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E68ACF-6204-4A4C-B13D-974A4091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879E4C-64A2-4996-9D77-FD35E5AE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164E62-E14A-4A28-86BD-CE243B88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CF47F5-9AC3-4A3E-BB97-07EDD131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517E40-1471-4055-835E-15E78C9A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C5099A-1BCF-486D-ABCC-40CE0578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175D2E-EE0B-4D1F-9B66-38C023BF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D89223-9AFB-4B6E-8409-0DB99349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1EDA-41A0-4164-AF1D-8DB801CC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EF8F6A-AADE-4BE0-A4C7-D3B66838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37FAB3-00CC-4BC8-9CF2-77A0FD7E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96F78B-2CED-4700-B364-BE08133D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855A83-2C4C-42A8-B5F3-7D9390BE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73B90D-6EFB-4D7E-BE44-22F5C61D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4C0BC8-F463-4C37-8969-52D8A36D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FC130E-BE1D-460E-A562-D8B2F89A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CBAF84-2B34-4DE5-8D0A-77D096CB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50B096-1FE4-4217-A9A4-B43B4C48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15ABB6-115B-41A0-B47C-32963292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F083-8BB5-4BF9-AB45-AF6D64B2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214176-1F6F-4AEC-AA1D-43DB9F68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B33009-E38C-40EB-BEC8-992AF35E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F710CF-2099-4850-B3CA-F0884862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82C318-C4CD-4AF9-9C47-3AEABDA8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7FDB67-4111-4B42-9D11-AAF63F2D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29602B-0948-434E-80BA-31F44D7F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A762D2-F6DC-43CB-B769-E725AF91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971D51-4624-4900-A018-8079951E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82CC53-03CF-483A-85BE-3BB5802F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34ACC3-9104-4291-9C3F-2F354054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13D1B-C607-429D-A85C-BD35F89B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B44CBF-FE82-4FBB-B9E2-A0A5350E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C4C0C2-3DD8-443B-A647-AB56D2A9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D00750-3BC0-43B9-AC46-4C5CD8F0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9142B-6F8F-4CD5-975B-48278F54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F521D-262C-453E-889B-C71CD900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8A460-F75E-4CDE-AF86-A697E20B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2A77F-A790-4927-9299-09319D18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8ED-04F4-42E4-95F1-D9F184F4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B34AD-BF8A-4454-ACA2-6A619304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C4BBE-DACF-4F8B-823E-D0B2C94A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103C9-2F84-4FAE-A14F-62D6E1DF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5082C-3C8B-4429-AC26-B328688F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EBABB-740B-424C-AC62-F033072B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98710-0D9E-4950-AEED-411DC2E9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0E5B7-38D4-4AFE-AD1F-F823AD87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00B07-F77D-4969-AE2A-30A7DD67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043DD-C2C0-44B6-9B23-DD56C131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44CD7-BF73-44E4-BBD3-BB3DD7A5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FD6-81C8-4E7F-AA17-3265C4E1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7E020-F4A1-4E93-9374-7CC2CD30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E8E92-4B99-44FD-83B0-D06284DF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97686-6A73-4F2C-9012-63996D2B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15670-78B0-4AC6-838C-7DD1C30A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521B4-16BE-4C4C-9102-85355A38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CB490-C33B-4F36-AD8E-3D641AB1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C6553-CC5D-43EE-8158-A7979C1E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13698-7211-4B82-B82F-613EA4C3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077B7-4672-4A3B-A0A0-8C8B9618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0A92C-2743-40A0-843E-2F699F19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8F8-F5CE-4780-A485-CE11CF95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F8989-B49D-458A-86DE-47DF50E2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7E3C5-B983-42F5-83AF-43A88F36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C18F2-46D9-4C4F-BF82-78C204CE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F58E9-3064-4F4D-9707-717D6AAD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A325A-399C-45D0-A10E-7FF88AB2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FEDB1-9FEB-4685-BEA7-1050863D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D4EA7-8331-4BCE-9983-56FAC66B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B5FB8-C5B1-4891-B39E-7E01F5A3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885D2-B9FC-4D83-A53E-93842251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3BFD4-386B-4920-86EB-CE3EE7B0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EF3B-7E1F-4820-AB32-97BEBCC4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8CD90-7F74-4200-985A-5BF85EF3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01C7B-9535-4881-BA5C-071EE7E6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14D93-6E36-4954-AED1-F1FB5B39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DE2C1-DBFE-457F-8364-C0D3B19E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A71FA-8EDA-4E91-A247-5E2BE984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D21BB-831C-47E8-9A5D-03E80E7D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3799A-39AA-4F12-BBBD-7E3B8AB2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8242F-3371-4A07-88B3-72314A28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284CD-20FB-44AC-8220-35BDA93C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5B56D-301C-4880-8156-35880D2B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7E6-9F54-42EB-A1EC-A412E9CF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C46AF-AF14-4FD2-AE2C-E8B9F0DA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3C980-A8B8-4EDF-BC85-05C83FDF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97530-0992-4D09-8FFA-D701E4CA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2A2A7-3B04-4720-8BAD-1E846140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0A573-71A0-4317-98A7-88457453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CB491-8793-4B8A-A903-60A10FAF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C2092-A473-49F3-9F87-993B7BCF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8E0A3-44E4-449B-8026-5EB2D70A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4E4A8-DC5C-4DF5-963C-E139A810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A6BC9-CC54-4A00-8E29-852B6F6E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8891-2AE0-4EEF-9A8A-5E103B7C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C5054-E981-4690-9761-6C3570E2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8A791-ECFB-4540-8985-4AD9B33D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AA56B-5F40-4081-A420-62473119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BC4E9-06AE-4D5D-A0D1-EE932863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FCEE2-02FE-4A1B-9813-925C88BE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280CC-1944-4DA4-A640-DCCB33DB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0ADF2-1124-4182-BBCC-5F5B4992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CDA9F-1F72-40B5-B9E1-0C33A507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A101F-F051-4A14-9812-EA4ECDB6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D2645-AEF1-4368-8607-6CC6E6F8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2DC-E2C7-4F5F-954B-E1975121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0708C-549B-48BA-9B06-A753C60E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3232A-6F2E-4952-B0B5-A17878CB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D7D11-805B-4CDF-8AC1-1E4E0EBC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790A9-B10B-497D-BC65-BEF01D34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D350F-8EE8-4FBA-83D8-C6290924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34CE9-AC1E-49AF-BDD0-CEEDD05C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42F51-92D1-433D-96AC-1DA8D1D4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22EB5-4A89-45D2-A0E7-5C495AEE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36B92-13F9-40C5-9F92-7F45FEBB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52AC2-F85E-45A7-8455-45AFECC9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5123-6183-424E-9412-57A70B7A2C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992E-D22F-448D-BC52-6696503EBB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BFCD-76A8-4761-AB57-96EA252680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CF91-BEA4-4420-9F67-7BB5DFF387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D93B-CA6B-4A4B-9789-E8B9178318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23F7-0B3F-4729-8BAE-DB9E1065C7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DEB2-AC4B-4217-8FE1-352984C6BF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FFE3-36E6-4A41-BB95-517039F607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425C-9502-4E52-91B1-06BD629DAE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72B7-A5F9-47EB-B22A-2DAA32B8B0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3877-8654-4BD8-B136-5BF41D941F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F568-34DE-4424-8754-A9A1209CE0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4048-073E-4264-9727-673A1CD13C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79C9-0DE1-4175-8AC7-6A02D679A5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6BFB-7E30-4D7A-82CD-FB2E1C7F2E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7BD8-B852-46A0-AD56-8329536CEB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1970-EF77-4EC8-AA20-285CA27CF6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45BC-2E7D-4D08-8965-E6C56EA53B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1132-DD01-4D7A-9C80-FCD7C2766A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1A12-ECB6-48AC-81FD-0535E133F9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64B7-7498-47BB-8834-20D7980B8B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FACD-4308-4726-AE21-3B57018AE3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160D-1233-44A2-B1B2-5760EBDA9B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ADDF-467B-4A52-8A0E-D5ED451A2A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F8E9-AA29-4CA2-B0DD-B24AF9C22C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C86B-7826-4D03-B499-AD64E63159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1828-039C-4FE9-93BB-FF40BBAB5C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AFA2-9F5C-4ADC-ABED-76625ECCB7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7FF7-5BB6-42D6-BC4F-EFF55957F1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73E3-B730-4424-9FEF-B3E1FDC148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6F91-71EF-455A-B9B9-9A013280E0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13C6-09C1-403E-8C1D-420C19DD13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1064-3682-459F-9B14-D0E7923663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1020-9956-4C4C-A1CC-C0E72355D1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8B63-3B01-4FDC-BB1F-5725D052F4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25BE-83E2-4B70-9C92-D8E29FD66A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7F74-4E74-4813-B919-213A20B0C9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0D16-16E3-4C4D-A937-D100A4DD62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138B-184E-4D1B-9657-9A96348ED5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54FF-2C6C-4A5E-8423-A71DC075A1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562040" y="2581200"/>
            <a:ext cx="60199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69633" descr=""/>
          <p:cNvPicPr/>
          <p:nvPr/>
        </p:nvPicPr>
        <p:blipFill>
          <a:blip r:embed="rId1"/>
          <a:stretch/>
        </p:blipFill>
        <p:spPr>
          <a:xfrm>
            <a:off x="766800" y="260280"/>
            <a:ext cx="7610400" cy="61531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900000" y="315612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900000" y="3716280"/>
            <a:ext cx="698508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900000" y="429264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826920" y="486900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6"/>
          <a:stretch/>
        </p:blipFill>
        <p:spPr>
          <a:xfrm>
            <a:off x="539640" y="5373720"/>
            <a:ext cx="6985080" cy="49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7"/>
          <a:stretch/>
        </p:blipFill>
        <p:spPr>
          <a:xfrm>
            <a:off x="611280" y="5935680"/>
            <a:ext cx="6985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0520" y="1486080"/>
            <a:ext cx="8562960" cy="38862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308720" y="429264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623880" y="998640"/>
            <a:ext cx="7896240" cy="52387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2556000" y="227664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3419640" y="4724280"/>
            <a:ext cx="57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8373" descr=""/>
          <p:cNvPicPr/>
          <p:nvPr/>
        </p:nvPicPr>
        <p:blipFill>
          <a:blip r:embed="rId1"/>
          <a:stretch/>
        </p:blipFill>
        <p:spPr>
          <a:xfrm>
            <a:off x="399960" y="1390680"/>
            <a:ext cx="8344080" cy="40766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388944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1187280" y="4724280"/>
            <a:ext cx="388944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5465880" y="3414600"/>
            <a:ext cx="3209760" cy="9511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5508720" y="4437000"/>
            <a:ext cx="320976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7352" descr=""/>
          <p:cNvPicPr/>
          <p:nvPr/>
        </p:nvPicPr>
        <p:blipFill>
          <a:blip r:embed="rId1"/>
          <a:stretch/>
        </p:blipFill>
        <p:spPr>
          <a:xfrm>
            <a:off x="666720" y="1643040"/>
            <a:ext cx="7810560" cy="3571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316872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900000" y="4221000"/>
            <a:ext cx="3168720" cy="493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5292720" y="2924280"/>
            <a:ext cx="3168720" cy="9363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5508720" y="3948120"/>
            <a:ext cx="3168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6324" descr=""/>
          <p:cNvPicPr/>
          <p:nvPr/>
        </p:nvPicPr>
        <p:blipFill>
          <a:blip r:embed="rId1"/>
          <a:stretch/>
        </p:blipFill>
        <p:spPr>
          <a:xfrm>
            <a:off x="285840" y="774720"/>
            <a:ext cx="8534160" cy="553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826920" y="3414600"/>
            <a:ext cx="424980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971640" y="4019400"/>
            <a:ext cx="4249800" cy="9223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1332000" y="5084640"/>
            <a:ext cx="424980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1332000" y="5661000"/>
            <a:ext cx="5400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5300" descr=""/>
          <p:cNvPicPr/>
          <p:nvPr/>
        </p:nvPicPr>
        <p:blipFill>
          <a:blip r:embed="rId1"/>
          <a:stretch/>
        </p:blipFill>
        <p:spPr>
          <a:xfrm>
            <a:off x="262080" y="1152360"/>
            <a:ext cx="8619840" cy="45532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971640" y="2949480"/>
            <a:ext cx="496872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1116000" y="3500280"/>
            <a:ext cx="4968720" cy="493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1116000" y="4033800"/>
            <a:ext cx="496872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1258920" y="4581360"/>
            <a:ext cx="496872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1547640" y="5172120"/>
            <a:ext cx="4969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185760" y="803160"/>
            <a:ext cx="8562960" cy="5505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1187280" y="3227400"/>
            <a:ext cx="3745080" cy="9223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826920" y="4178160"/>
            <a:ext cx="4465800" cy="9223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755640" y="5229360"/>
            <a:ext cx="4465800" cy="5047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755640" y="5748480"/>
            <a:ext cx="74883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2231" descr=""/>
          <p:cNvPicPr/>
          <p:nvPr/>
        </p:nvPicPr>
        <p:blipFill>
          <a:blip r:embed="rId1"/>
          <a:stretch/>
        </p:blipFill>
        <p:spPr>
          <a:xfrm>
            <a:off x="237960" y="1343160"/>
            <a:ext cx="86680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3:1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