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150-0193-4629-B1AE-7AE840F7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1EB-C7DD-4887-89A1-D0F513C6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95A64-EC0B-4DEE-9B99-6CD50AD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1A5AA-ED2C-4D1B-B076-0C5AC276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71FE0-B189-4588-8362-8EC0D88A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AC298-DED3-4FCC-BCFC-34170B95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3E648-EB04-4C9D-A358-75A1DF47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22E03-C467-4FA8-876E-C71F825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8F9F2-3666-4890-81D0-50F9CFBA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33A41-57BA-486F-A74C-82D72353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CF066-9E4F-4A8A-A9A0-10958ABF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822BE-2475-45E0-AAE7-6975F311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494-03EC-4BDD-A539-5F8754EA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DE6F2-59D9-44B6-B960-8F440F51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7F8F8-9D85-4699-B54D-D074850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54CA2-1697-472E-BB29-99E7DDBF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FE51F-D5D2-4850-8E91-F7FA77EA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B2506-D476-4633-9349-2A76ED80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564E4-B0DB-452F-B862-90B59A0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EADD6-01D2-4823-931E-C075DDE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083FB-C3B8-4027-9D0D-88B881EB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85B0E-7E81-4F45-B01F-3993075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E9AA3-7F9B-4935-813A-3B0EA73A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44A-F428-4695-8342-84012EB3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B6243-3296-4E17-9F4F-F1ACA776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9C4DF-2587-476F-8818-13515CAA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6E961-A692-4A4D-9976-CA2D664A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DCB38-8F13-4808-8481-18343620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C8549-9947-4492-B03C-9558A843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98E7D-BD23-457E-B800-954D534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BCB36-BDE9-42B1-9B4C-566CB976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8564C-B12E-44C7-A2DE-D66E7FFF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0EDB5-3A8A-4C05-B2B5-8980C27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BC234-AF7A-436D-9C4A-0524376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754D-A662-4C66-99EA-B3D6C4E7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C104-1F49-4605-864E-DF289535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DE09A-62A0-402A-8264-256A7AD1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57375-0E32-4F09-8238-70A32422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D3CB3-3084-4F12-9FA4-5AF66618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B579D-67B5-4EA5-8469-13B6B99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0630A-0776-4471-9C81-ADD1EBF9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DC8DD-B3B8-4682-8D65-1F328420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D01D3-2510-4740-B47E-8FBD022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2A659-4607-4626-92F3-36068DD9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3F2B0-B7E2-4705-9F7B-7816FC6F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CB9F-1781-4502-9E12-CA3E7818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68620-F19A-4A1D-A699-0A30ABE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269B5-7973-4888-BF7F-EF7BBA2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4F0A4-F418-449B-A705-612717A0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EF3CD-DC9D-4106-9AAF-812B5EBF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1B2D6-E6EC-4902-9CA6-A21FAF28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2E519-F8FF-4137-A34C-A9469084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812B9-E298-48E2-BB01-7432115D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BDAD6-7E93-473D-A0BC-3ABE3854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DE51A-4C82-424E-AC4F-90ABEDC7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DAA56-DE85-4E2E-BF06-2A387948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8EF9-A38F-4B1B-9CE5-36CCC15C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43DAE-6491-4BD4-9540-6E13E6E5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530D3-3ED1-4AE5-8F31-A821BB0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E3EDB-634F-4EAD-AF54-64622E2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425DB-925A-4F12-A235-136C8AE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2F64F-9508-4C5B-B926-B20FBA1C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9846E-B378-4BB4-8174-D7966F8E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A0EFF-BBF5-44E9-9289-2F421F89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4D5F7-A4A1-478A-87ED-E77780CA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2C171-65DB-4D84-A73E-ADD6C234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A58CE-9559-43FE-8E9D-65CF36D2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3963-02DA-48B8-BED5-6C45D29E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1DAF3-BA9E-4355-AB62-6E10957E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3CE17-A203-4975-B699-EF7C9DE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9833E-4EB3-425C-B42D-4321CE3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5AA8D-1AB2-4CF7-9DA9-C46EEC1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EB3A1-CEA2-4E0E-8A9B-895F5FE4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91E43-ACD7-4CF0-8FEF-8C0853D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4583C-A733-4C90-959D-F2047F80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E4100-F5EA-4198-BE77-C8D86982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98C21-EBE9-436E-B0F6-B9CB4C56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3D347-B879-4E55-948B-85D89E9F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3472-1D59-4D1A-81B1-E79D4064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7F692-0C40-473B-831E-5CA6F26E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FEB9F-6B50-4039-BF9C-75E4798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3270D-D011-48B0-A9F1-BC53A5BF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E0BAC-BC91-441F-9E1A-2DD965CB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DE352-7BB0-445A-8008-3EF8F655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C2FE9-E514-4A89-9365-DB4C7802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2A5C6-0950-4DEC-B610-D7A0C6E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F6915-5CF2-4AC8-A59F-94F41480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9F53D-0F0A-40F7-A58B-B910DE1E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B86B1-3D67-4F1B-B07B-104C46BB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395-792A-4820-8802-F6FEC8A8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9B4CB-4818-427E-A1F0-DA8F8F0B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EACE2-B61C-43CD-A130-368730BA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494B5-B04F-4552-B9E4-E512C469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BF552-D6BE-4A8B-B6B1-B506EA8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134D4-89C6-451D-A4E9-2367FC0A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0C88A-2D56-4445-BDAF-05B21D08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39EDC-C90E-4AFF-AFDD-5FB4506A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05D03-E9DE-4E19-B604-D1D9212A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B6103-65AB-43E4-9A9E-7433F329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1B36B-7EE5-46B5-8064-3480B74D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A7D9-3CEA-442C-BD49-0249E2E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81F03-BE0A-4318-BE84-416384AE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7B7D2-4F53-4096-AEEE-2CA46CB5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35475-8E7C-4095-AC72-CD1566D4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60A8A-0AC9-4813-9F20-5F0D0610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BD7D4-5012-4384-A172-3EE3FF5F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5E05A-A3D6-4E91-95E5-34C284F6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FCF3E-D26A-489E-88C6-332786DC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71467-868B-4FE0-A74F-13D5102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A0DCB-A764-4A93-B6DA-31F88D26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3AC25-61C5-45E8-B3AD-3DF05578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335-53E0-4F5A-BB13-0AAD63BE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B078-77E9-4480-9396-1F0240DB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7112B-B99F-4B2B-9A50-50A66D5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FDD9F-E1D9-4FEE-AAC8-2F98FB77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CAF3D-58B8-4146-AC74-CD6FE32A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6907A-0C15-4441-8502-5978A7A8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70369-D5C7-4FF7-9FA0-9C816D05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23D6F-3CFF-419D-BE0D-0C8AE996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90DBFF-815B-47B7-BC13-10D2C37F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73470-0393-4C1C-9FE6-7C165949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F2EA5-6769-492B-8891-54150F58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28B03-7F39-42B5-931C-7E177D1E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6A55-2829-4496-B074-1A5F4F2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093D9-1792-4E9E-AC27-CFD3824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3E7B0-8DF6-47A1-A528-038E2D4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365A3-A033-47EC-9CCC-C242C9D0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345AB-0B94-4064-990D-FBEA1747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CDD20-AD8B-4489-AF76-970ACF5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9783A-98B5-4BD7-BE38-D7565868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50BEC-50DE-483D-93D1-E8F2F4B1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32327-DC96-4AF1-8533-7CD026EC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A386D-4A7A-408C-A6DA-D3CD2036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8496D-84C8-49FC-A8EF-361CE645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BF08-A3A7-44A8-A204-3F619384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9F98EF-0B19-4DD8-A92F-4A18C21F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578D5-4107-4956-9FB6-1CB04A8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502ED-79F1-4C86-9197-ADBDFA80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A71DDE-4624-47FD-8E7C-BE87A939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DC51C-0348-43E4-91C6-F8AC4342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A22579-DC31-436F-8243-9736CDB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41774-568A-4AE6-9ADF-CEB3CF49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95A67-BF8B-4E27-B2CD-E8AA54F5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BBF59-230A-4B94-B896-BC3EBC93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00D02-91FA-4FA1-A9E2-0FB9D233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9B88-E1FC-490E-8828-F50574C8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4C490-E84C-44F1-A32E-AA917201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49EE8-0774-4956-9DFF-57E8F3F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91F6A-C96F-46E8-BE2B-5CBEFC45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5EF9F-7B19-4A41-8765-7611876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33898-51FC-4904-AA7A-77A8AD4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B02B5-794F-4CFC-B69C-8FEDC0A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72F4D3-574B-4F80-B4BD-FD98251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8C214-4950-4A9D-BAB9-96254F8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F9791-223B-4AD6-8A22-F2515936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6D1AB-82C8-4C3A-AD79-AE55B74F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8824-D203-4565-B7C5-A4BC3341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23C51D-E32A-4FB2-B9D5-8A53667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C81C4-43D2-43AC-A916-CFE72BB5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65C3D-E314-4EFC-94C9-0048FC08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0612CA-3732-48AE-BA48-60BFA1A1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E6677-2C41-4B9F-AD9B-CC447D9E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A7D87E-AD1B-4D46-8032-F3D1684C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0937B-D3DB-410E-ABFF-D618A66E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A1ABE3-46C5-444F-BEB7-55ABB77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FFDAFF-4238-4BF7-B05B-EEAE129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3325D-629D-4512-8E35-AA83760A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4A91-FB7E-420D-831C-C1081278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9DC377-ADF9-42AB-9C6F-00032184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B596BA-0D34-444E-A9AB-8015D033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3ECC1-7B8C-43CE-B29C-BFCB97FF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7A1C-7921-4CFC-98D9-3B16CB04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0E7F-419D-4825-A67C-D5E05EF0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01A5-1200-4A9B-B946-B39FA384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50EF-CB5C-40E2-A57E-8350F3C0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A58-F16E-4EBD-814C-1A69B775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41DD-E0F3-48EA-B901-0CE7E896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65ED-271E-4D56-BE9C-283C3697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177F-6AF6-4707-9B50-EF3F9AC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8E28-D9BA-4BE6-8558-2ABFD35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4314-4B29-41EE-9401-BA3B0AE9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1B88-C774-4C6B-86A1-32DA143D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622B8-B7EB-4CC7-8593-C764E32F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2F7D3-92F7-4F5C-B6A2-754C61AB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12A9E-D4A0-46E2-88E4-417E435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AA74F-BFE4-4C04-8A1E-3C224583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B48-5409-4C12-B19F-DD06ADB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CD572-A0F2-4565-9014-F6235C6F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9FD7-171C-4D73-BB4D-6A1E2549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84CB-1EF2-46EE-98C2-EF1CB2BF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0362-DE3F-4D59-B4F1-AFEEE5C2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50B8-8DC2-4A0D-A70E-0C477686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CBC2-00E0-408B-823B-2C64171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6A06-E565-4880-B8E8-A9913C5F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9E22-86C3-4413-9F1C-6383665C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39CED-B999-4DD6-8DEE-D7D25C10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D9FF-099C-48BB-8A67-8478239B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871-7A43-4F38-9B59-6992F5A9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9F3D4-75CE-4D2B-8EAA-1D09F10E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F74F1-2FE1-4964-AC09-A958C0A5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90E8-1949-43FC-86A7-F76F4C97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A9DE6-85A1-4A70-A33B-4224FE8D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205A-067C-4EA1-9D4B-DBA49792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A7C0-FE74-438D-BFCD-D03C50B0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E05E3-8E50-47D4-90F8-43A7012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6B31-716D-4115-A1D8-8E34CF9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ACD84-9CA4-483E-95DE-647B8F91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3A909-FD91-4170-AA76-682583B6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293-C338-43EC-B945-BD13321E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6964-EDCE-467F-A1B0-7C9FC784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8582-8711-4B6D-BBC2-4C813583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7871-4BC2-4835-ABDC-EB582C1D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FF61-0E71-4B5C-8BE9-2D87EBA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AF6F9-5AAA-4886-8085-106125F5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A8074-B7DE-4639-927B-42D64D7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FE0ED-D6F2-46E6-9092-B3BF697D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AF6A2-2BEB-4BB4-A99C-9F70E349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ABE2-D29C-4426-9DA7-D37DBE73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233F4-EDFA-44D8-A511-629E0FF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BA3-C7B3-4FBA-94B5-AB97A334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64B6F-9450-4F8D-A64F-A25C4B11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C3F6-65A0-49AA-B7D0-89A8E125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7FB86-DAC9-40F8-A81C-1A0768CB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38C8B-CB0D-4931-BC90-596DCF1E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C5D21-7891-48AC-8A83-7BA06DA9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BCDF-0DA4-4708-9F07-29B460D2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32AB9-BBC1-45F5-8266-37285DA3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8CA6-5C0B-4CE2-AFD0-4D643DDC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B6B57-4C60-4DD1-A1B8-1A09C86A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7A94-CAC5-42AF-94A0-9861FCB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4B3-70DB-461E-8E96-64F31F1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C891E-7695-4813-9941-A56B2E87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F9E9E-6C39-47A2-A3A4-C52AD37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AA091-8FA3-4492-B31D-C466F946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3CDF-AAE5-4F7B-82DF-E9F0D2FA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9585-2579-4314-935A-9CA26125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899E7-1559-42AD-96E0-8D8F7C20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59CB5-A4BD-4FF0-9E8B-B0B0ADF4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D125B-3D9C-428A-8BD5-C4CEAE81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0C82-A801-446A-9D5B-6AF04926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C93F9-5387-41DA-BED5-550042A9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90E-9708-4EA1-ABBD-90DF7A59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273D4-D5CC-456A-9DA9-7946A940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41236-3CC0-45E9-A819-1300516B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5B773-C292-4420-A1BD-56258E9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BAC1-624A-42A4-861A-F170CAC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807D8-583C-410A-9671-D9204AE4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7D194-96B6-4623-8E39-439089AA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7276A-DD81-4358-8A1C-958E5BAF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862B6-C186-453C-A6C7-0893F8FA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F3C9A-BA8C-41EC-94CA-A6E5C23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E37D5-1D44-4CDB-B03D-105D921E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F629-CE20-425E-846C-C6AAB738B4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04C7-A11C-43A9-BDB9-6523FEE787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E765-EE86-48B2-906E-3FA283BC1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A49-D5AE-4217-AB68-FC5C0A5B06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29F3-6E93-4763-A140-0336EE289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2A0A-F2F5-4D2C-A84B-E592D9CCA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11AE-9E5D-4885-B097-0E87CDC9EE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D22C-C1BF-4400-872D-867D2370B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010-BA8F-40A2-AF1A-2EB4145A8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9E1F-2795-4B65-A9CD-2D0C2F6E4F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FFAF-1C79-46F7-872A-F6A2C69831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66BA-1BD2-450B-A39E-C23C4CF3AF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8ED9-A18E-415D-862A-F1B2583F7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0A1F-1923-40BE-ABB9-6664E80E2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468C-3E3B-43CA-9F21-F104CCA6B7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02C5-2CF4-468E-8BDD-4CEE56426A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606-6F68-4E9B-9EC5-DEEC25B225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ED01-36B6-4041-9713-241FC4EBE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45AE-EF26-44C1-9082-15161FD10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17A6-A449-4579-8F6E-733DC9BA1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9A53-0CF9-4407-A8F3-79EBBF2D43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3076-5D18-485C-964D-101F0DFDB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1B05-27CD-44BB-9A16-31C10114AB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1493-FB45-41D8-92A1-EB0DBD7B74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345-80B6-4AB1-B4DB-0AB25C9C0C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B05-C876-4817-92C4-CE5A69FB8E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9699-B345-493A-96A2-B9CDBCCF4D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602-DC3A-468C-BA4A-4B722BFBB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C8DA-20AE-414F-8D60-2EB563D880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D6A7-701C-474C-98C0-5A9CEE6C3C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C094-007E-4BF1-ADF7-ED56C075B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4CB8-86E6-43E3-8E93-6D386434E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5B49-EE17-46FF-B51F-BA078BC662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BF8B-67CF-44E7-A03F-9DDEAA432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B9BB-B597-4A3A-B295-EBA300756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8415-9ED4-4427-B7F1-C26021C9D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8389-DE8C-4204-B162-CFDBE31AB9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C019-F253-452B-B668-C54C1A565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1FFC-9257-4C9E-B04E-F171BE166F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FEB6-755D-419C-B468-F3158C55F3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71760" y="1844640"/>
            <a:ext cx="2400480" cy="7142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04920" y="3770280"/>
            <a:ext cx="8534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70658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315200" cy="214344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70659" descr=""/>
          <p:cNvPicPr/>
          <p:nvPr/>
        </p:nvPicPr>
        <p:blipFill>
          <a:blip r:embed="rId2"/>
          <a:stretch/>
        </p:blipFill>
        <p:spPr>
          <a:xfrm>
            <a:off x="157320" y="3413160"/>
            <a:ext cx="8829360" cy="22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284720" y="126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284720" y="19303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7236000" y="13129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877080" y="19749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1979640" y="3990960"/>
            <a:ext cx="639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1835280" y="4653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4932360" y="3962520"/>
            <a:ext cx="6397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4932360" y="46245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8035920" y="3990960"/>
            <a:ext cx="9288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7740720" y="4653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743040" y="1063800"/>
            <a:ext cx="7657920" cy="553392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29" descr=""/>
          <p:cNvPicPr/>
          <p:nvPr/>
        </p:nvPicPr>
        <p:blipFill>
          <a:blip r:embed="rId2"/>
          <a:stretch/>
        </p:blipFill>
        <p:spPr>
          <a:xfrm>
            <a:off x="252360" y="44280"/>
            <a:ext cx="3240000" cy="9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738360" y="1914480"/>
            <a:ext cx="7667280" cy="3029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484360" y="194472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2484360" y="2565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2627280" y="319896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2556000" y="3789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2627280" y="4437000"/>
            <a:ext cx="496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509760" y="1685880"/>
            <a:ext cx="8124480" cy="3486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0930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382284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98764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503244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6156360" y="3645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2987640" y="4552920"/>
            <a:ext cx="18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28680" y="1185840"/>
            <a:ext cx="8486640" cy="4486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5148360" y="20034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5219640" y="26082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148360" y="32418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219640" y="38466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5207040" y="44798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5278320" y="5084640"/>
            <a:ext cx="29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671400" y="1828800"/>
            <a:ext cx="7801200" cy="3200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5651640" y="4205160"/>
            <a:ext cx="28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709560" y="985680"/>
            <a:ext cx="7724880" cy="4886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091120" y="5243400"/>
            <a:ext cx="34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7" descr=""/>
          <p:cNvPicPr/>
          <p:nvPr/>
        </p:nvPicPr>
        <p:blipFill>
          <a:blip r:embed="rId1"/>
          <a:stretch/>
        </p:blipFill>
        <p:spPr>
          <a:xfrm>
            <a:off x="250920" y="63360"/>
            <a:ext cx="3867120" cy="648000"/>
          </a:xfrm>
          <a:prstGeom prst="rect">
            <a:avLst/>
          </a:prstGeom>
          <a:ln w="0">
            <a:noFill/>
          </a:ln>
        </p:spPr>
      </p:pic>
      <p:grpSp>
        <p:nvGrpSpPr>
          <p:cNvPr id="951" name="组合 54279"/>
          <p:cNvGrpSpPr/>
          <p:nvPr/>
        </p:nvGrpSpPr>
        <p:grpSpPr>
          <a:xfrm>
            <a:off x="1332000" y="755640"/>
            <a:ext cx="6105600" cy="5991120"/>
            <a:chOff x="1332000" y="755640"/>
            <a:chExt cx="6105600" cy="5991120"/>
          </a:xfrm>
        </p:grpSpPr>
        <p:pic>
          <p:nvPicPr>
            <p:cNvPr id="952" name="图片 54276" descr=""/>
            <p:cNvPicPr/>
            <p:nvPr/>
          </p:nvPicPr>
          <p:blipFill>
            <a:blip r:embed="rId2"/>
            <a:stretch/>
          </p:blipFill>
          <p:spPr>
            <a:xfrm>
              <a:off x="1332000" y="755640"/>
              <a:ext cx="6105600" cy="59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图片 54278" descr=""/>
            <p:cNvPicPr/>
            <p:nvPr/>
          </p:nvPicPr>
          <p:blipFill>
            <a:blip r:embed="rId3"/>
            <a:stretch/>
          </p:blipFill>
          <p:spPr>
            <a:xfrm>
              <a:off x="4487760" y="1450800"/>
              <a:ext cx="863640" cy="52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4" name="直接连接符 54280"/>
          <p:cNvSpPr/>
          <p:nvPr/>
        </p:nvSpPr>
        <p:spPr>
          <a:xfrm>
            <a:off x="4500720" y="1844640"/>
            <a:ext cx="792000" cy="446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54281"/>
          <p:cNvSpPr/>
          <p:nvPr/>
        </p:nvSpPr>
        <p:spPr>
          <a:xfrm flipV="1">
            <a:off x="4500720" y="1700280"/>
            <a:ext cx="863280" cy="1657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54282"/>
          <p:cNvSpPr/>
          <p:nvPr/>
        </p:nvSpPr>
        <p:spPr>
          <a:xfrm>
            <a:off x="4529160" y="4869000"/>
            <a:ext cx="792000" cy="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54283"/>
          <p:cNvSpPr/>
          <p:nvPr/>
        </p:nvSpPr>
        <p:spPr>
          <a:xfrm flipV="1">
            <a:off x="4500720" y="3213000"/>
            <a:ext cx="863280" cy="3168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295200" y="919080"/>
            <a:ext cx="8553600" cy="5019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900000" y="5343480"/>
            <a:ext cx="59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1:2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