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DB1-F5D1-48A4-A340-5F978387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BF1-0FF1-4FE1-8B0E-F2E9B522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1B38F-F763-4EFD-9D6E-9FB8B085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DA771-01C7-4F97-9241-B16EADF4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07317-1D32-4DB4-AD7B-56E9B608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3D99D-5103-4FE7-989A-BB507753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FD787-D1C7-4A3A-A109-1E75474C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A6468-02D0-4AB2-BB39-CCADDD0E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46F65-1A12-48B6-A014-95C0D07C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6835D-BD33-4E8A-91DF-8EA6B5FA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1616A-863F-43DD-A57A-04C68467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B4D91-F220-4167-872F-68BAC606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2D3-357D-4644-A753-7555A7C6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8048E-8927-4433-88A9-0F2F3844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A9279-36C7-4833-ABD7-FC76223A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96CE8-CA7E-4C81-9189-54BE98DC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166FE-44C3-4E94-9258-1779DFC9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EDC71-1640-48F7-88F5-DE88FAF4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EAE60-7B3F-4C3C-B102-8C982255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26262-808C-468E-A48B-AB7ADCB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3D45A-3BAA-4BEA-B476-CB93A79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E23E8-5D61-438A-B604-06966750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9076D-8AB5-4F30-8F4A-D62B71F6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311-162C-466E-853E-F4BD9FDB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CA799-EFB1-44AA-BE0F-6ED9521E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73C8B-547E-4589-9252-39EF78B5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DC217-FBA2-4EFE-9910-95AE5E72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18B2B-510E-4DB2-A015-AE15855B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54AFB-3FD1-4BA1-A411-BEDB505A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BD36A-6939-499D-B983-565E0FA7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A2368-9B85-44D6-BBB0-E22C6F8D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20196-D2E3-46E2-B8E1-5A5975E6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E78FE-591A-4B69-8FAC-65A56468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A30AD-8795-40CB-BFA5-1AAEA1C6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1862-B769-4822-A7F7-4C455AC8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B0B92-7FBC-474F-B0D0-32A5EEEE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17B54-5082-4D0C-AB62-DF6E720F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9B5BE-A4B0-4668-B95B-13809D06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10F60-D7C5-4A61-AE42-F83246CB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B6679-2FEB-4A9A-8E72-F34711DB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E49F5-DBC9-45E1-8B2A-9842A291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04976-8DB1-42BC-9CEE-5B2C6AAC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6E80D-170C-4BF5-B158-2683A53C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A9AF5-2D7D-437D-830B-5AB070CA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959A1-0FD4-41AE-AF5A-0594329C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659D-1B51-4706-9F63-C75F07B2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FF9B1-BC84-4BC6-9F97-A9733050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640B0-4545-46C6-825F-D7769A8C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210CF-A1F0-4622-B79E-5C2CD470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3424F-A803-413C-A612-6A7DEAA8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DBED9-EC41-42F2-A2FF-02656D9E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EFC68-A1E5-4651-BFB7-0FD7F787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A3B34-F01B-4405-B7EB-7ECCFA00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CB032-5CC8-4220-900A-20F6B483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7F2E8-541F-4F9F-B69C-145E1FE3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2A9F5-A1F3-4B3A-898B-0A0504E1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25A7-6AF1-4619-A6C6-29DB47B9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DBF82-24E2-4DBF-B8C8-B5F61CE6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F2B33-B809-4F63-8787-3A54F0F3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D6B5C-BF6B-4020-B650-753C26CE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D46C3-6259-463E-B745-254502F9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3C763-F600-4F2E-A1A9-E5F3991A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DBCA7-36F7-4200-AE58-82D9DE3B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EC227-B5F8-4E4B-958F-4A8CDF23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3FECE-8BE2-48F2-8F6C-B1C80A7B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5AEF7-A62C-4414-B95F-DB16B4D1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BCCCFF-7607-4BF4-B141-8972065D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B8E9-1A39-4AA5-BB52-21B650B3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C61B6D-D8DB-4DEC-8349-F1FF424D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2E28E-0122-45A6-904C-8050C7BC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D4C50-3B14-4420-8E04-41F91345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1DFD5-3CD4-4714-AFF3-53346B5B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305A0-1738-44CA-85B9-27C194A1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7A2F4-FDBC-4E31-BE37-49383A90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CCFBC-D02E-410B-8796-61F53DEC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044AA-EFC5-4186-AA06-5B7B6E3F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BDF675-B873-4A28-84E5-40786586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55062-BA54-46C6-ACBF-25082ADF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94BA-AF24-4465-BECE-0FE82ED0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61275C-5917-43FD-98F6-8785B1FA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DEACA3-E240-434F-ABB9-F7D06354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4CCE2-79EE-42F5-ACF7-60B92295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71D58-FBFB-439E-B4B6-1C1FD462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28FF8-9689-4389-ABFA-F1FCC80B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DD2B7-C8C4-48C8-A135-106A640A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E3AE3E-DDD0-468C-982A-92249850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BE6AE-6E9A-4A8F-BC44-FB7191C8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1AEF8-5042-4FD0-9B55-9E367E1F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BB359-B3E6-4C59-AA67-B94E57B7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D149-F006-4623-BA50-6ECC03E0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0779CD-73C6-4923-9A47-AAB66DDC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D63E9-5261-4AAC-A8CB-38E747B2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3D11F-7FD2-4B40-A770-03F4CB68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0ADD81-8FD6-4CEA-80D1-32757357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5843B-217B-478F-A082-26AC478A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7D859-0ADB-4BAC-8C88-79F30E89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96FE2-446F-4B92-8C8D-D733A5B0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4FA8C-6741-4940-9B42-4630E2EF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2A60E1-7738-44C1-9F6E-566C6299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D49EB-F7F1-4DAD-B3E3-5D8CEA0D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0976-B3B9-47E8-912D-B6FF14A6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F8F2A-017B-4E14-AF95-88ECE382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B23008-E622-4110-A56A-17AF3CC5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C7668-E6D7-4661-9753-FA8654F7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32E18-6742-4F75-BC69-AEED4EC8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093C1-6BC9-462F-9B2E-8686FEF7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B5C52A-66A1-4D12-97FD-3CF6265D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2E0A4-5763-44D3-AC55-69F8A365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BC4BE7-6CD3-40A8-B59F-7FC85B62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6A121E-C5DE-4C34-B7B8-7DB87258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B9F3C6-B080-40D0-A7D6-25C83C90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EDB-C52F-4671-9C02-1851D019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7BF1-ED83-49A6-9CC0-F73C77FA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E50A2B-B4ED-4E21-B2DD-D0B3A00A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D7F72-FD19-47D3-AC41-B17FE607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52AE2-5A51-40ED-9F73-C800F477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77B95A-0017-41DB-A195-7BBB071F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9EA307-8B7C-426D-B0A8-22421779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D2B45D-9750-4463-B11E-E64A9323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C0DF79-0343-48E0-A979-0C368EEA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4E703D-9EAA-44AE-A979-FF4C4C2D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E4C850-B138-45C1-9427-04D14C09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0930A3-7AD1-4B3E-8333-686EB3BA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3C4D-2271-477C-981B-48248494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4B3CB-F567-48FA-8099-E9BA1A33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0AE5B3-A663-4FA6-BB48-B223B1C2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75779-5BC7-4161-B2C8-4F951D26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3176AB-E9CF-41B2-B61D-5F392649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765A42-442F-4026-A318-51B1AECB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DFDBF6-16F1-4DD1-ACBC-7E965266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61479-158F-4D33-90BC-A6505D00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D5504A-4485-40BB-B3AF-D19E7248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2FBD2-5825-4DC1-987E-A0AF35BA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C6FBB-F606-47B9-948B-DEDF6F2C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9585-9448-4EF2-8637-7327C7B4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446A1B-CE9B-44DC-8297-AAD34F4D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222BB1-3B84-40ED-8CE3-CE091A4E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D92E1C-F0D9-435F-8D1A-D5A800FA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BAAB4-1BA8-4337-A423-7F2CB9A0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7C0721-0476-4EC6-B653-46925416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A0DF42-B121-40E6-848B-D712A51B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1A54B6-850C-451E-91A5-759FB290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B3FFD1-3074-4FCA-8B20-9BE53CB6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6C3E69-2A82-476D-9225-0C023AFB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7E1AEA-6B0A-4186-86EC-EFF830EC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B8B3-4E0C-48B2-B894-D91A3640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34CF2-9874-4A9B-AAE3-C37E303B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FC0894-DCD9-45C0-A0FF-02B0204D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7D3D0D-7541-41E8-AB09-66A56E10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AEBBA-4278-4A5B-912B-78CA5185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3D510B-9371-45CE-8918-0C25B77D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10BCA-020A-4BB3-87F5-1EAEB9E9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2AAA0-B045-4962-AB43-9DFE836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A8369A-9263-4BF4-B8E2-D32B8929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712350-F12D-45FF-AD86-094F3ACF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B6A10-A777-44CA-8398-5A8F6B9E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78E5-C05F-4EE3-9C76-A18B9AE9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8AC72B-0D17-46AC-9F28-AEFF754D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4FD2A9-951C-4E42-BEA4-DC0F19E0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C780E-E3B6-4232-934F-A9DE460B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759C5F-9D39-466E-BB85-FACF96C1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F92CDA-0702-4F68-80E9-D5811100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50EA4B-94BB-4E36-BF1D-A90376D0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9E9626-3997-4F17-A920-D24FFABE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CB1B08-E113-4E48-8028-D244C87A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3B983-58E4-4413-89D5-D9650992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FF5AF-255D-4E71-9D82-F2449336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E2530-0FFC-48A9-9C54-558A5877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EF41C1-F442-432D-AAA4-2A1A4214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0AF88F-1AB3-4D14-AA28-A2497831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AA6805-3FE4-459C-AA41-2AB0E558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2DF9F-F9C8-4123-9875-3BC024BE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E54C-5FFC-40F5-A2E4-9BDFC70A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2E43-D238-4A58-88AB-6E4C1732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B99DC-4C98-42A6-8318-980F4CB1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9C2-BE1B-4637-9CDB-113241AA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E034-332B-4CE7-B805-E794394A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D81E-9EAE-4470-A69B-7504927A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2882-89AF-41A5-BA23-3C9638DF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738E0-7E22-4E18-9E03-D11E1D09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1CB7-7A19-4D4E-AEC6-B51CABB8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BE77-CB22-42C2-A45C-CE1D1DA5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75CD-ECF1-4668-9CD4-435D0541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9F4BB-1EE4-481D-AE3B-E841BC56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CDD7D-DE12-45F7-B1C8-495E1EC2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573FC-238C-4A8D-8840-68EBDC5B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319-FC88-403D-98F9-42841FA7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0766-31CD-4A7B-8502-EB7D988B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D2E60-D222-4AFE-B093-76AAF18F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CFCF1-AAD6-412C-8814-0AA2B712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578DE-B973-4192-81D0-48A44DC1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45082-4C60-4017-9068-4627DEB0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53000-7885-4C24-B618-FE50D9DA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647A-9D82-4123-9443-B80A4534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EFF26-69B5-49BC-A694-402A6906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C9417-6F63-40A6-9BF1-588B57C3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38217-4650-4CFC-A2A9-0F4418CB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C61-331B-4217-BABF-EEE03841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78C38-332C-41A5-861E-B0846111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30956-2EFA-40EA-9EA0-A5FB7C4B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2C8F1-021B-4474-8889-63CD2C19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A6F87-B6F8-47C7-9BA6-B896A982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25A71-8A57-40D6-A667-058E8653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79B50-68F7-4EC6-9FB2-9F954641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998A9-9F2F-4453-925B-2E9B8166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240A5-311C-4C20-B240-1B3242E8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4FCF-CCA4-4300-A61C-7EEBDA9E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C7D35-481F-4FCB-8D16-2583BCC6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9CC-E5C9-4817-8CB4-F556E6E4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B3B66-6198-40A0-8A26-D185E1F1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AF0A1-3B56-4BFC-AF20-6B3CC792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0FCE5-A702-44BF-867E-18E298FD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6F536-3F00-4ED9-A4B6-A4A37A02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D2105-1C0F-4665-8DB6-DA1DBF97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B9071-898C-4605-8FCC-BE36E850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B0A55-CC65-424D-A48F-8E6FAD6F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CA91C-669D-47A9-B9B5-9C6EF7A7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3A528-792A-4074-80A5-CBE0DD7C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CC8BF-CEBC-4E5C-991A-1346553E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0B7-13B8-4930-A29B-B0A6E78A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CA854-CCAB-4C58-969E-E09C8139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0B71F-0C2E-402A-AFED-7497FB01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E62C7-79B4-403B-8C0C-5D1583B0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54DFB-004B-4997-B167-536981AA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BF80D-0B33-477C-BF05-008636E2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C51B5-2F86-4E21-B3F8-DF34A1A6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3D105-833C-4896-89A8-304F4004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6FC4E-6C56-40B4-8E94-956235AE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847B6-A311-4EE2-AA33-A3CF9FB1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E4327-681B-45CA-8F46-184F2AA3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520-0E7F-4029-BF52-C5C5E609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385AC-877E-4317-BD31-8EC78826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07D35-F4F3-4ACF-B71F-434A0FAA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2210A-0FF8-420E-8986-3FA654A6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5E7E1-5CDA-4BB8-A088-2F9210AE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02C04-1311-42F8-AAE6-F68C003E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DA415-F239-420E-8C2D-08D9ED6F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08F45-04CE-4D5E-B21D-6E9918D2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20BF0-966A-4FF1-9D70-2EA239ED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97D37-F900-43F4-9B35-A3FC29C6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B5B22-9257-4E8C-88A5-2F1F7B54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7DC-9DD2-4A78-B801-1B49890A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53B20-0C82-4485-BD94-4E0482BC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F85E5-A10E-46D1-967F-EB650D07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E0BF3-BF34-4133-82DF-27EA91CB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47155-7D67-4F83-A0F2-2F428C8A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BB626-B3AD-4746-BEAC-18702CAF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2441C-5084-4EA3-853A-9145DCFE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5F2F9-0B37-402C-A1F1-6284AE39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F2416-406A-4604-B386-22898DD2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89D48-A27A-43AA-AE11-9AB97606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329BD-98AC-4795-81C7-1CF0CDE1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AF08-DDD6-46DB-B934-CD934BDE31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EB1F-D6EE-4718-A5FC-5BD6CB7D0C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466F-EA77-4D3D-B26F-FC4BF8010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DB5A-00AC-4866-A4B9-967F1F611F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A982-7B2F-4E02-B06E-496FC39B4A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C30B-D1BB-4E32-ABA1-992EC917DD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9DE0-BEE0-4E25-AD9D-04164616A4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D12B-D2CF-45FB-887C-ABA36B3F12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91F7-159F-48DF-B9B9-EFF6837319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76A0-7DA8-48CF-8D1A-513827E579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C1BD-C1B1-4AB3-8A6F-789073BAED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A8AC-D1D6-4BAC-8940-CBDDF6F9FD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FC5B-0F42-4DAE-9343-8F4ACA88EB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10B8-2720-471C-AE0E-1E7CEA738A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51B3-81A2-465E-A5E8-AA7B1FDF66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A109-5126-4221-B1EA-8299452BE0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B988-14CC-41D8-99C7-C9DA8E4979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7255-3291-4E1A-8EBA-1BB09760C5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279E-B1C2-4112-9F90-C41E236C4F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96D2-94E3-42C3-96D8-D83975B276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5561-D08F-438F-9699-232A92819E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55EF-FBC8-41A3-90DF-2FFA7C64CB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0E09-A33D-40C0-B1A8-DDC9212A49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56D6-F5D9-4768-9128-5E1BD4CD31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BEFB-D978-431F-9639-CE475F4EE4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1190-DCF4-4FE1-ABD7-0E92472582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3321-F235-46CF-AB50-965B9D3ABB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B5FB-DCD7-4879-98ED-07C7B0D460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CA7B-5071-4DBC-9DCB-0E40625627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40AA-C110-4E22-B119-F95589E8CC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AE29-2EB9-4FC4-9E6C-C3401984D4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B344-DF17-4624-B126-1EECB5C364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F8C3-CBD0-4728-8156-7D684CAD44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9505-F88E-495F-880C-E59BCC8C21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6EC6-1343-463D-9828-D03D24351E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6615-4F09-4FFB-819B-5432C8A859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D479-562B-46E2-8BAE-070F1FA117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9A43-F179-4E83-97E3-3F5A6EEF56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ABE8-D3C6-4597-BFE1-BA1A12A1EF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434A-7B1C-4031-AC6B-7B5F9ACC3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24080" y="1268280"/>
            <a:ext cx="6495840" cy="11145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362400" y="3071880"/>
            <a:ext cx="2419200" cy="71424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28680" descr=""/>
          <p:cNvPicPr/>
          <p:nvPr/>
        </p:nvPicPr>
        <p:blipFill>
          <a:blip r:embed="rId3"/>
          <a:stretch/>
        </p:blipFill>
        <p:spPr>
          <a:xfrm>
            <a:off x="914400" y="4427640"/>
            <a:ext cx="73152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60428" descr=""/>
          <p:cNvPicPr/>
          <p:nvPr/>
        </p:nvPicPr>
        <p:blipFill>
          <a:blip r:embed="rId1"/>
          <a:stretch/>
        </p:blipFill>
        <p:spPr>
          <a:xfrm>
            <a:off x="290520" y="1625760"/>
            <a:ext cx="8562960" cy="497196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60429" descr=""/>
          <p:cNvPicPr/>
          <p:nvPr/>
        </p:nvPicPr>
        <p:blipFill>
          <a:blip r:embed="rId2"/>
          <a:stretch/>
        </p:blipFill>
        <p:spPr>
          <a:xfrm>
            <a:off x="179280" y="250920"/>
            <a:ext cx="4191120" cy="11620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1863720" y="2651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4427640" y="26798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6948360" y="2693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7539120" y="41925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6877080" y="41925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8"/>
          <a:stretch/>
        </p:blipFill>
        <p:spPr>
          <a:xfrm>
            <a:off x="62420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9"/>
          <a:stretch/>
        </p:blipFill>
        <p:spPr>
          <a:xfrm>
            <a:off x="5594400" y="41925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0"/>
          <a:stretch/>
        </p:blipFill>
        <p:spPr>
          <a:xfrm>
            <a:off x="4975200" y="4005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1"/>
          <a:stretch/>
        </p:blipFill>
        <p:spPr>
          <a:xfrm>
            <a:off x="4313160" y="4005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2"/>
          <a:stretch/>
        </p:blipFill>
        <p:spPr>
          <a:xfrm>
            <a:off x="3665520" y="3990960"/>
            <a:ext cx="503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9410" descr=""/>
          <p:cNvPicPr/>
          <p:nvPr/>
        </p:nvPicPr>
        <p:blipFill>
          <a:blip r:embed="rId1"/>
          <a:stretch/>
        </p:blipFill>
        <p:spPr>
          <a:xfrm>
            <a:off x="604800" y="990720"/>
            <a:ext cx="7934400" cy="4876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2627280" y="223344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5003640" y="2276640"/>
            <a:ext cx="165600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7956720" y="22766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1187280" y="292428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3564000" y="288144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536400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7236000" y="350028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169236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1"/>
          <a:stretch/>
        </p:blipFill>
        <p:spPr>
          <a:xfrm>
            <a:off x="334800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2"/>
          <a:stretch/>
        </p:blipFill>
        <p:spPr>
          <a:xfrm>
            <a:off x="507672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3"/>
          <a:stretch/>
        </p:blipFill>
        <p:spPr>
          <a:xfrm>
            <a:off x="6732720" y="414972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4"/>
          <a:stretch/>
        </p:blipFill>
        <p:spPr>
          <a:xfrm>
            <a:off x="1547640" y="479736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5"/>
          <a:stretch/>
        </p:blipFill>
        <p:spPr>
          <a:xfrm>
            <a:off x="3564000" y="479736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6"/>
          <a:stretch/>
        </p:blipFill>
        <p:spPr>
          <a:xfrm>
            <a:off x="586728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7"/>
          <a:stretch/>
        </p:blipFill>
        <p:spPr>
          <a:xfrm>
            <a:off x="6227640" y="5445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8373" descr=""/>
          <p:cNvPicPr/>
          <p:nvPr/>
        </p:nvPicPr>
        <p:blipFill>
          <a:blip r:embed="rId1"/>
          <a:stretch/>
        </p:blipFill>
        <p:spPr>
          <a:xfrm>
            <a:off x="606600" y="585720"/>
            <a:ext cx="7829280" cy="6105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4284720" y="62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2700360" y="126828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5580000" y="18590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6588000" y="249228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3924360" y="371628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6084720" y="3716280"/>
            <a:ext cx="115128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6516720" y="436572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6659640" y="501336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0"/>
          <a:stretch/>
        </p:blipFill>
        <p:spPr>
          <a:xfrm>
            <a:off x="3132000" y="566100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1"/>
          <a:stretch/>
        </p:blipFill>
        <p:spPr>
          <a:xfrm>
            <a:off x="7524720" y="566100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2"/>
          <a:stretch/>
        </p:blipFill>
        <p:spPr>
          <a:xfrm>
            <a:off x="1042920" y="6222960"/>
            <a:ext cx="1150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7352" descr=""/>
          <p:cNvPicPr/>
          <p:nvPr/>
        </p:nvPicPr>
        <p:blipFill>
          <a:blip r:embed="rId1"/>
          <a:stretch/>
        </p:blipFill>
        <p:spPr>
          <a:xfrm>
            <a:off x="324000" y="814320"/>
            <a:ext cx="8496000" cy="5229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187164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4140360" y="2276640"/>
            <a:ext cx="187164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6645240" y="2276640"/>
            <a:ext cx="164160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3348000" y="3514680"/>
            <a:ext cx="251928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6"/>
          <a:stretch/>
        </p:blipFill>
        <p:spPr>
          <a:xfrm>
            <a:off x="6732720" y="3500280"/>
            <a:ext cx="164124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7"/>
          <a:stretch/>
        </p:blipFill>
        <p:spPr>
          <a:xfrm>
            <a:off x="1835280" y="4149720"/>
            <a:ext cx="244944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8"/>
          <a:stretch/>
        </p:blipFill>
        <p:spPr>
          <a:xfrm>
            <a:off x="1908000" y="5445000"/>
            <a:ext cx="164160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9"/>
          <a:stretch/>
        </p:blipFill>
        <p:spPr>
          <a:xfrm>
            <a:off x="4211640" y="5445000"/>
            <a:ext cx="164160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0"/>
          <a:stretch/>
        </p:blipFill>
        <p:spPr>
          <a:xfrm>
            <a:off x="6342120" y="5473800"/>
            <a:ext cx="16412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6324" descr=""/>
          <p:cNvPicPr/>
          <p:nvPr/>
        </p:nvPicPr>
        <p:blipFill>
          <a:blip r:embed="rId1"/>
          <a:stretch/>
        </p:blipFill>
        <p:spPr>
          <a:xfrm>
            <a:off x="309600" y="592200"/>
            <a:ext cx="8524800" cy="60386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766764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774072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7726320" y="48117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7696080" y="615168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图片 55300" descr=""/>
          <p:cNvPicPr/>
          <p:nvPr/>
        </p:nvPicPr>
        <p:blipFill>
          <a:blip r:embed="rId1"/>
          <a:stretch/>
        </p:blipFill>
        <p:spPr>
          <a:xfrm>
            <a:off x="343080" y="1380960"/>
            <a:ext cx="8458200" cy="514368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55301" descr=""/>
          <p:cNvPicPr/>
          <p:nvPr/>
        </p:nvPicPr>
        <p:blipFill>
          <a:blip r:embed="rId2"/>
          <a:stretch/>
        </p:blipFill>
        <p:spPr>
          <a:xfrm>
            <a:off x="250920" y="169920"/>
            <a:ext cx="4066920" cy="11714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3"/>
          <a:stretch/>
        </p:blipFill>
        <p:spPr>
          <a:xfrm>
            <a:off x="2050920" y="534528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4"/>
          <a:stretch/>
        </p:blipFill>
        <p:spPr>
          <a:xfrm>
            <a:off x="2195640" y="5992920"/>
            <a:ext cx="1296720" cy="4474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5"/>
          <a:stretch/>
        </p:blipFill>
        <p:spPr>
          <a:xfrm>
            <a:off x="5940360" y="5330880"/>
            <a:ext cx="1800360" cy="4474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6"/>
          <a:stretch/>
        </p:blipFill>
        <p:spPr>
          <a:xfrm>
            <a:off x="6084720" y="5978520"/>
            <a:ext cx="18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图片 54276" descr=""/>
          <p:cNvPicPr/>
          <p:nvPr/>
        </p:nvPicPr>
        <p:blipFill>
          <a:blip r:embed="rId1"/>
          <a:stretch/>
        </p:blipFill>
        <p:spPr>
          <a:xfrm>
            <a:off x="790560" y="1523880"/>
            <a:ext cx="7562880" cy="38102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2"/>
          <a:stretch/>
        </p:blipFill>
        <p:spPr>
          <a:xfrm>
            <a:off x="1692360" y="4062240"/>
            <a:ext cx="1727280" cy="4478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3"/>
          <a:stretch/>
        </p:blipFill>
        <p:spPr>
          <a:xfrm>
            <a:off x="1735200" y="4753080"/>
            <a:ext cx="1727280" cy="4474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4"/>
          <a:stretch/>
        </p:blipFill>
        <p:spPr>
          <a:xfrm>
            <a:off x="5838840" y="4033800"/>
            <a:ext cx="1727280" cy="4478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5"/>
          <a:stretch/>
        </p:blipFill>
        <p:spPr>
          <a:xfrm>
            <a:off x="5881680" y="4724280"/>
            <a:ext cx="172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图片 52231" descr=""/>
          <p:cNvPicPr/>
          <p:nvPr/>
        </p:nvPicPr>
        <p:blipFill>
          <a:blip r:embed="rId1"/>
          <a:stretch/>
        </p:blipFill>
        <p:spPr>
          <a:xfrm>
            <a:off x="328680" y="880920"/>
            <a:ext cx="8486640" cy="55724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5041800" cy="44784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3"/>
          <a:stretch/>
        </p:blipFill>
        <p:spPr>
          <a:xfrm>
            <a:off x="3132000" y="5243400"/>
            <a:ext cx="5042160" cy="44784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4"/>
          <a:stretch/>
        </p:blipFill>
        <p:spPr>
          <a:xfrm>
            <a:off x="2916360" y="5905440"/>
            <a:ext cx="5041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0:14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