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105-D728-4574-AD22-3F96626B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562-465A-4F88-94B1-8D73303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C72BB-FB42-4FF3-8CF1-7FDAFD8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42847-6C48-485D-8C3D-F197D2C3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4B832-D187-4AC4-8BA1-672286B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E725D-4CF9-4727-BA31-5A4DAEE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82E7B-5B41-495A-A176-8E0A7FD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C4924-D618-4041-80E4-35454E2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30140-45D0-40F9-B1DB-E8C79E1E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33597-DBF6-40C4-821B-23671FF2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61782-9137-4EA2-AB09-FBA8382C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8BC32-BD63-46BC-8E53-690379DF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DD1-58E5-4426-83BC-E83058A7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21827-7DB4-461C-B16C-B8791278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A0F4C-FB6C-45DF-9B7D-68AA3EA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43F4-3F4B-4317-B60C-0234CA7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F97B-3730-4D57-9C32-AC7AA572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CFF0-973A-4C90-A1A6-C6738DA2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DCD20-0400-405A-8356-0DB5D12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883CF-B5F0-4C5D-9F5B-6474BB6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BC801-F1B4-49F2-9131-B267A26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72EAD-198A-4E7B-84BF-3C087BDE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6EE1C-8C67-4563-9923-5701B35F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F4B-014E-4B23-BA0B-2715304F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3E1EC-9888-4581-82D1-708D7A94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90BC-E30D-41E1-9782-5B154EA9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365A6-22DF-493C-93F1-BD9B0AD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16756-727B-43E0-8DF3-9E44B60D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34981-3A1E-409E-B093-1DC6607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36B9F-5189-4FEB-AE9D-2EAD7FB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9B0E-B040-4BD0-85FA-BD5B17D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AAC7-9740-485C-9F41-4B02BDB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8AB3-3E5B-44DC-BC3E-8BDF697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A27A-2BB5-4D9F-BADE-9E6D0E8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FBC6-1AB5-45B0-84BF-09935E7A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3E20F-1DFE-4F12-8EFA-E71B5FE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F634D-24FB-418B-9146-CEC53371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1E36C-9A31-4760-93B2-63D26394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E6B1-CCA5-4EC0-A2A1-4A705FB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8BE1A-C153-4172-9388-5E5B035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F58C2-C712-455D-8278-7ACADE3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71BB7-20AA-4D79-8ECD-A75968A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B85F6-D06E-47EF-B133-3C5C540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8DD4-AAF7-4063-AE2E-ACB0627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B54E-68C4-4A88-BFDC-58ADC35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513-D39C-4A6F-95E9-AC27CFF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6D64E-6DB7-4764-B6C1-9979A31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781A8-C105-4ADD-B4F9-7DF3603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0A4A8-0DFD-4B8F-80BB-1137C33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812F0-92BF-45E2-8946-1C096B41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4DCAB-30D4-4FFD-9F0E-2324F62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F50EC-72EE-4703-9A1C-4405DED0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FA99B-C712-4628-9A90-0F2FE39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07468-0677-4477-ACEB-6C286BCA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2974A-B143-4120-8ED5-03F8CD7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FC033-77CF-4020-AD3C-90F256B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BAE3-D665-44A4-9480-3A477D8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FA6FD-4D66-4FA4-85AE-6EB5419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0C92C-71A1-4A84-829B-90BFF7E2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75EBD-1385-40E6-91B5-B3B72A1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B5F89-B7E3-49D4-8A57-8C1E8E6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B6980-7E44-4FA4-BDE3-9B48E7D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A9A36-93C5-4B64-B722-AA6F0B99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B6957-B5E1-4020-A04D-722970D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2006E-DAB4-4683-BA07-FE87D4A1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C1E0D-C4A3-4E01-A624-5B70C22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460AD-77A6-4C5B-BB7B-802A799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6D1-88DA-4E4B-A700-7281C744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58D4F-1E4A-4696-B2D0-18DD68ED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373FC-E74A-420C-95D8-DEAC6A9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CF7F7-0E33-44F3-8CD1-D126C87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DC023-4240-4E59-8414-72938B4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450F6-2AB3-4266-9A52-9320232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4595F-0BC6-45C6-8D16-4FA7F9E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2260B-ED5E-4803-8F23-BF667F6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0279B-9C77-4948-B162-648C7B2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FD184-2AF8-4D12-BDFA-09C9EDCD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52536-E83D-4BE2-867C-96CED60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E819-0E79-42CA-9E2B-FCC9E0C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69702-0A78-46CA-BC74-6A53740A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C98BB-D697-4159-82A6-438C837C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04A70-B8B3-4F2F-B37D-DABD3492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8A7A0-16BF-4825-9814-BCC7536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00B3C-9805-4DDC-B51A-AABBFCF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D8040-1D63-48DD-8246-FF0010A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DA688-D0CA-461D-A4ED-127E3B5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FF7F1-5710-4019-ACFD-EBD0746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A737A-8C52-46A3-802C-14BB09C0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4FF6D-CAEF-49A2-88F4-8A59D71E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0734-D799-4070-9B96-8413C1D5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89D85-2810-47B3-ABF5-865D6852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849B4-2C9D-4F2B-AF34-FC4039F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1EC16-35A8-4B11-9403-846373C8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2E5F2-49F6-49B8-A10D-0508DCC6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B6FD9-F841-4009-8151-DF0AE792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66D10-97AA-4B12-8D27-20319BEC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F0EBF-87BA-4D46-BB48-27478CF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14B2A-9089-4DC8-84D3-2A032B3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5F720-529C-4A34-A7CD-62E908FF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6EA5F-C2A4-40A4-A73F-6DE5B03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6CF-6ED3-4E6E-BC2B-AE20557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8F8F7-62A7-4E12-803C-08193683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3D3BA-B7C4-4521-BF47-A319FE17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01D06-0D83-4AEE-A56C-60F6327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BB1F4-BCD0-4676-812E-E9955C3D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CDCE9-E88D-4964-8E94-488A914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684D1-58D2-42D6-9835-D01FB07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C4501-612F-4D79-9D43-DF47D04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FBE73-96D2-44F2-BC29-A9EFEE2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9B8C3-D388-4983-9605-830CFB3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56F3F-8FF0-46C8-A6FE-7E4C5EB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1D0-9397-4DDE-AB92-8307870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EED-7C22-4DA0-8AFB-76F30E3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F102A-7169-4882-BEC6-0F738D5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29227-2FD1-405F-9514-49A2304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72B66-A7EA-40BD-A8A6-C1FF689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A1A0C-7664-46FF-BED8-97B773CF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D4324-B2EA-429F-A79C-9B009262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B3DA5-610D-4F68-AA4F-5F7594F2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F9542-E29A-428F-943E-8C78A655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FC121-134F-451B-BCA9-2C9FE062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E586B-BDBD-4DF5-AE95-631B084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CE32E-1068-4ED9-8188-598FA35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727-3CD5-41A9-9A94-5D36287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E6B2E-C590-452B-87B6-CD7B15A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7E05A-7F44-4AA5-8D6C-47A33EA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0596A-3811-498E-BE13-859E220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4DFA9-68B7-425B-AA21-660E3412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1D977-8A71-48CA-93A5-0335F3B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423DF-6667-4FD4-92C8-5EEE4A50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FC9D1-7588-4E66-A73B-1F91BFF2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3EF96-B5B3-4FE6-BBEE-7B99DB2A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ABA44-CFA6-4900-8A7C-4F5F7A8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324A0-7611-42C9-B214-F0BC5C9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631-AAC1-4443-8EA1-F45B78EF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31855-97DA-4B3C-8616-72641F86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9A03A-AEF4-42F9-A616-8C0771E6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FC8EC-D557-4A35-B63D-0EB9454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18079-C2AD-4913-9CAD-52CAE02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DB854-4B14-4F3A-A268-DF36D21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2166D-D0DF-4440-82CF-EF9E17B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8387C-EC8E-432B-A3C4-E3A495C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4B915-D8D0-40CA-B18A-4B168750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B6818-6249-4265-9F79-18865C0F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FB0C5-EA69-4D71-84A2-6B673D1C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7F4-AF62-47D6-9447-2A93DA99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19C0B3-00F8-484B-97CA-7BC9E76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9E07C-2B79-445C-A073-6EC30AE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06F82-1630-460F-992A-B41B5CB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E4177-619C-4A38-8E56-C8113A97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CEB99-323A-4206-AC31-7F6B189E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63309-5491-4911-BD6C-35B7071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D635B-1F46-4664-968A-074518C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79168-C103-4F6C-901A-33EFF12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7084C-ED35-4070-841A-7A3CE61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BC62E-D30A-4D18-B05E-70D27A8A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5C42-8785-4246-AAD4-32F78A7F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9A57D-3D77-4CD8-8648-5E244E2A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EE873-B700-456C-9E3C-AED5C9CE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0D56B-531A-495C-9CB1-8EF53F42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43C7D-FB2B-45C1-A6DA-130A4E4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3ED8E-070A-49E7-B240-888B531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B05D2-A5DC-4CCF-B62F-23C031E8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07B38-7902-43B8-BF4C-A693C972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C61E9-2B88-4793-A03A-FCFD700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ECA46F-27CA-4088-8672-CD14EFD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45BAF-B7CB-49B3-9E2D-7A3D3C2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419A-9AF4-4002-9679-07D0214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51C41-A609-47FC-8F43-B44A6BA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B6D55-7943-4EDC-A322-668C776B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1FAB1-A74F-441D-AB13-7699C706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E5E0-4CD6-4396-AD70-2DA9509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A27D-A6FE-4A4F-948F-C591E768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638F-D0D6-48EF-969C-4B92D61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5984-4149-424F-B017-EBB815DA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72F-789D-43FC-AE6A-9F21CBCE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1893-0C7E-47D5-AB64-226DF390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D3E9-0D70-4F1E-819B-FD162C4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B6BB-9A7E-42B4-B89B-2951AF4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352E-A926-4BB6-8F6D-832D077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D05B-8F3E-4DE5-8C55-B1B75B5E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2CE9-5D79-4F57-BFF0-521C8EBC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974F-0C8D-4D92-8447-E3D0AC39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F6B2C-807A-4984-BAEA-B93EB9D1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AD1F-9735-489B-9D0F-57880DF0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17FB-3516-4D2A-A81A-F7B5977A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6DC-509A-404A-B75C-1421943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1814-8633-4D13-A55D-B91423D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8C0F-3DDE-4B9F-8B86-921FE3FB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1DE4-E9A0-4FC4-9582-434F0876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2D65-C54F-4EDC-9064-745501A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F789-968E-4967-BC5F-BDF781CD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24AD-7A56-4CDA-908B-66210BB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FDCA-98A0-4DDD-BA04-AE3970CB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8671-4A32-424D-8214-9096CD65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430A-C3B8-450E-BF60-D44A49FF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AD78-947A-4E6B-99D0-04712774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996-76F7-4835-8207-DD109B72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2E7C-125A-4922-8F0F-A0CBFDB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E38B-8A4B-4D72-B430-2562F0FE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C409-AC16-4338-AE8D-E78EBCF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7A39-E38C-43B0-BD08-C6135CD1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CFE3-CA1C-42BA-972A-C13EA5EE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571D-088F-4667-8A8C-F3F1ED6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803F-AE39-48A4-B2DE-E6E0749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DA3D-E7BD-46DA-980D-AB03938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FBF8-969D-4D76-B05E-5027A431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0763-BD2C-43BD-BE3F-44FA468E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37B-DEE4-4B7D-8FB8-A43DA17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0527-340B-4300-AB4D-BAED18FF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3D78-7281-47D2-9696-6860D01A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CBB4-0286-4BA2-BDF3-DC7B9EB4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3373C-04B9-4211-BDAC-DABF447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15DF-E262-42F1-AAB7-1BA99A6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DBC0-BD3D-4221-978D-20B3AFF9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DF92C-7FD2-44C6-92CF-AD351FF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0BBA-2A0E-48FC-BB66-7270387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0714-6421-477D-A8FD-B146E98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7B0FA-5227-4AF4-9D9E-FADF4913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758-E5C8-4DFA-B487-DE4636C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9CC8-17E6-4EC9-8568-2E7FB5F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A334-7028-4020-8ACF-7F524121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D1BC-70B8-42A8-9596-31235CAA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C690-C707-428F-A8B9-43ED5B92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D9DEF-971A-4BF2-BB85-0B25D81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C070-3C8D-4949-8E50-97BD42B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E82C-EAC4-443C-8DF8-A4E43EDE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8438-859F-4CE5-BD1D-207D1A8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BF7F8-1DB2-4B60-ABA4-384B22B5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38DF-1FE5-41E2-BE97-8712B0D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CA-1EE6-4AC6-A7ED-62329CC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D029-D8A5-4D6B-A9E2-089A17C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617E-7538-43D3-ABA2-502FA91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6392-EDBE-4FAE-B8A8-30C2A6A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9726-3835-498D-910C-89207B69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9B19-B766-4F61-A14E-8AE82AAF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B309-867F-40BB-B352-CD30120B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5049-345A-4F1B-84B9-C5DB6D6D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34238-5506-4F59-8804-3436CAF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AA89-B50B-420F-A36B-B10423C8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ED6A2-E4F3-4834-B343-BF108F8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833-5B60-4AB3-8B5B-66E3F74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0AFC-D0F5-4F77-A250-99B8DDE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DD4B-70D1-41EE-AC94-1FF18C4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A921-0714-42E9-8EEB-7865B57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F699-DC97-4DA7-B395-58EC813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864B8-192C-40C6-9DBA-6712B2B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C633-493B-4F42-99F6-DF7BC610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5996-59CA-414A-B79F-A1929F40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3EDE-3F04-4FE9-BF3A-72744037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F73C0-EF7D-46C7-BC0B-EF8FCA8F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74E31-B5B7-4F92-8E3D-374B6A48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A16-AC13-40E3-81C3-D52097DA5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B6F-98E4-4A94-B7C4-8E07CA61A5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F85-F057-485F-B93F-D15E5D895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9F8C-8DE8-4B3D-8563-37C57878C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89B-056C-4196-8A4A-97A01511A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484-F9E6-4CCC-858B-6BFDC1A68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9AD-8297-4B0F-B586-A363C70A6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941-4CE8-43A0-BFF6-EBF0E2C8FE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E7F-5BFC-4903-BEBC-BD0FFD026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33B6-631B-44F7-B52F-55C849493E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7B6D-00A2-4626-81C3-2687B8669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5A6-D64F-44AE-9AB3-04A1BB8B70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91C-2B8B-4467-B383-CF018A8B22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904-3E31-4E84-9455-2E9B84862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124-C430-41FB-BE5B-0E8ACC39A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9BE-4990-46D5-956F-C4935E7D8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32D-E4A6-4A28-9DC3-41CC2556F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CFD-D59E-468F-9193-BE5AFBCEE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8CC6-5325-4B17-8326-7B6DCBD0D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E9B-26F3-4D4C-895E-E91E180BA5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E5B-0003-4BA7-AD61-E3356C21F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14CB-AC45-458A-B249-2DBB4E80C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C03-8E8C-4627-824D-D1EE30224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06A3-D023-4864-87C9-621EBF363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6890-B300-4664-BAA3-47FC1EB11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AE81-8EA7-4ED2-A7F9-9AF8933422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FC01-91DA-429A-ABCA-B2AF2D1D2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186B-0CEC-47D6-B721-7AA72BCD6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F0E-8683-4403-84CE-9B00E7A46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434D-EED1-48C1-9E86-C57121745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91A-EFC4-4E63-AF66-DD23843BB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12C-4B06-45AB-8701-EEA001FFB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0F0-F34F-49D9-9C38-FD0495281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2C6-8CBB-4902-BB56-A5640B243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196-E97D-46B0-868C-14437E6D2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0E00-0166-45A8-A7A0-53B5D6D18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087A-327A-43E1-A0DA-B68FE6BFC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BA8F-B546-449B-8909-45E04E9AE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3A7-6F66-4FFE-A376-3C1E4A137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993E-4A14-4E41-ADF8-CAAF1BCA7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57440" y="2938320"/>
            <a:ext cx="58291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652320" y="752400"/>
            <a:ext cx="7839360" cy="5772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735120"/>
            <a:ext cx="8064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11280" y="1384200"/>
            <a:ext cx="8064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39640" y="2060640"/>
            <a:ext cx="806472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39640" y="2724120"/>
            <a:ext cx="8064720" cy="1857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80647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2440" y="880920"/>
            <a:ext cx="843912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472428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551664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914400" y="1528920"/>
            <a:ext cx="7315200" cy="3800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4716360" y="4724280"/>
            <a:ext cx="12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90600" y="1595520"/>
            <a:ext cx="8362800" cy="3666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484360" y="4508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500720" y="278136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572000" y="446580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6588000" y="278136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659640" y="3645000"/>
            <a:ext cx="165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1895400"/>
            <a:ext cx="8496000" cy="3067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56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318960" y="1509840"/>
            <a:ext cx="8506080" cy="3838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971640" y="398952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473868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314280" y="852480"/>
            <a:ext cx="8515440" cy="5153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87280" y="2476440"/>
            <a:ext cx="4608720" cy="952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35434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55640" y="554688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95200" y="1300320"/>
            <a:ext cx="8553600" cy="4257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4321080" cy="1152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900000" y="351468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7274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299880" y="619200"/>
            <a:ext cx="8544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3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