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092-CC34-4A1D-B15C-17D27DE2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CE4-E0EB-4049-B3D5-5C88F5BC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5EDA1-39F0-4C34-9424-9ECA9291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52C92-9F83-464B-8381-7E738DD1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7073A-B14E-4765-B9A4-8B115B12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95754-D516-49EF-81B9-D9C3668E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BFCBC-AAF8-4E33-8A87-6EE49278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E8BE9-E200-4B25-973C-7B987ECD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32192-B8DA-44DE-B134-658DB6D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9A818-4F63-4027-A9CB-CA90C501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7F996-A269-4105-8484-F4E8230D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DF328-A9B9-42DF-9481-1C3665B0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A599-DAE1-475B-B747-11DBAD4E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62A3D-DB3B-4FD6-AF3E-885DEE11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943CE-CB34-46DC-BBD1-10269306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EA786-A4B4-4026-B1D8-A8BBCAE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9174D-0BF4-4DA6-BB4C-4D8ABCE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1354F-D00C-45AA-BC3F-272EDB2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E02D4-A2FE-457D-9A6A-0AA573A4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358E8-B5EA-4562-9FCD-01F3A849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6300D-EEA1-4EF3-A370-FAD5BF00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FE14A-49E4-498E-A2D1-815A7CD6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773D8-D556-40D8-B930-ED4E61D2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32F-710A-40FD-8174-FA2790A2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D74D5-A6C8-4B1D-9E15-22F2E25B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A4F44-AD1E-4966-BDA6-6E0E3442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A0F74-AE95-47FF-A1D8-17DCE9BD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DED5B-ACC5-4A7F-940D-05646F6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29073-36AE-42D1-BEB3-3D32068F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B85AD-6792-4213-B7BC-24AEA2C7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2B6F1-0CF1-426D-A3C9-4DCDA59F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7F01F-03FC-43EC-8A00-A0F24067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08480-BFF9-4938-A374-8AB9FF94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CD5E3-2A23-43AF-8A7D-AF78184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38EE-5889-46E2-926F-591A5BFB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50D3A-EFCA-495F-93EF-D8A0BBFD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2BC01-4D25-4BF5-AED8-E47CC7CC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3806C-E07A-4D52-90FA-B7F3535B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DD5DC-BAF9-49F1-812D-AC40FE24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27C78-2571-4AFC-AFE8-07021937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9CF0F-84EE-431F-B1EA-90EEB8BD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2BEE2-C2DE-4950-99CA-B5B3C8FE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7886A-14CD-4027-86E8-641B9628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02D32-3CCF-484B-953A-6D387C1A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4B15F-8BED-4F00-828C-D1F1A00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D697-08D1-4548-BF44-2CE30ED9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0F31C-9CBD-4AB0-B79A-66D5E20F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E75A5-1710-4C5F-AD82-15B465D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2E29C-F650-48BA-8525-9B5418EB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7F1C4-D33E-4E77-900E-B4551AB4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FB4D3-0452-4C66-BE21-5F28B2EC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019ED-2965-4ADC-9870-FC2ED8A77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F2C1E-C05A-42FF-B51B-41857ED2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1C9EA-70AF-4510-9757-9C6651E0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8D803-A06B-4D5F-8A7C-539DAFB9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B4729-8EE8-4A9F-9760-AA2215B8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7B8A-13D5-43DB-979E-B1EAE6BF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AA749-E60A-4FD9-ACDA-CAE9A80E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EB5A73-4776-457E-846F-9F61672D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667C4-F1FC-405A-BD4F-3E0C78D8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B3BF4-B151-41EE-B844-D4EA082E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4EFE8-B565-41C7-AA4F-577CABC6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CAB45-8284-4FA9-AAD2-ABEFCA6B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6BEAA-7DF4-43A3-89BE-6B8347DF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316D5-B242-4B94-8032-D5761333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FC537-C606-42B9-AEC6-D42F9E01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A6D80-5D75-4683-88FF-3B8DBCFE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C256-54C5-4CBD-9E5A-B829A3BA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F2089-0286-4C11-8711-CFC78BD4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0068B-84D4-43BF-8D0B-567B184B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430BE-BE9C-4237-B74F-D4C4028E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6312A-DF0B-4063-8B1E-485E427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70737-E3AB-40ED-8CDD-B6D26BDA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8FD25-27A0-465F-9E35-712AB04E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605A3-48AB-44F8-AE70-4EB824CE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20005-2DF1-4BC4-856B-B5E54CDF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7F4BA-DE43-43FD-A1EC-E43D40D5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BE1FC-925D-48E3-AD20-48C3F1B4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8DA6-6AA4-429F-ABB6-EA5EF408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C45631-4A0E-4958-A74F-2426DC7A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0DC9F-96DB-40B5-98C8-79C580FF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B9A4F-E246-406E-9E9C-DDB2A1AA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61AE5-5B80-4134-B0D2-B70C381C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647B8-E2A4-4AD9-9BAA-C42D0563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CDE2D-5825-44F5-9893-A9377998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4595D-79B1-448F-A66A-F387310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7BB13-4155-40A6-8A27-FFEEECC7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1C115-89FD-4EC6-B057-39AD02EF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59BD4-E7A6-4A56-AC31-5D8610C2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EFDA-E732-4F21-8CB7-B7F8129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A8AF32-1368-4C67-B599-9576B6B6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E906E-EC01-4A8B-93B6-8DBC0406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83C6B-AC58-44E0-B8FF-70436BB9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696919-22CC-4428-9FC1-329AE8CD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2F697-5791-4C65-A42C-A6129E39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38DDE4-A040-4805-9847-A3EC095F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268F27-57B3-4015-BCF3-B0A10BB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D512A-2C7E-4DB0-8B49-F5DF6B19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AAE99-319F-4831-9973-D191DE99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A08A5-5C19-4DEC-B5D9-CE7EE116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48A5-F306-4B6F-94BC-D2C3A158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297A3-2FD1-4A11-AFD9-7A8136C7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F1B1C6-09F5-4C77-95FA-87F12853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F3EF6-A3BF-4FFE-AF29-618C2779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384E3-3F23-46F5-82C0-1F27B990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70621-10C9-4E84-9023-F73A8230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344F19-80CC-4445-A087-2D679B12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602F9-1BAF-4EF4-9392-FE78CF04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150CC-C391-478F-AEEF-AE1B6338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4800A-EC23-42C9-B847-2BFA4A50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A76AD-EC64-49C0-A9BA-266A51B2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A9F-B0C9-4F77-81D1-F4FFBCEB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1201-A835-4FEF-9CBF-61B439B6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D505A7-B015-420F-A937-D9A000C4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574D1-3DE8-40D1-8084-766B7546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B328B0-0CDD-4201-A01B-929904B9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AADE4-F0E3-4DEF-BA11-B8254116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CD726-0010-4D1F-ADC1-2CFDA8EE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C1EA12-2286-46C4-845C-F73141AD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61033-B789-40E2-A6BC-DB507F32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5B4FB-19ED-4C5C-A3A3-79E3C2A3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B9FB1-8BEA-4B16-802E-50CDF7C4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E8EB9-2146-496B-84A3-135DABB4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58D8-54DC-4825-B19D-41B04931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A333E-A4A3-4C66-B7AE-D489829C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13874-F76F-4552-875C-CA4B8E99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98680-C287-4F29-8226-AE37F96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DCA7B7-9007-4034-A0E8-0F38A569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2D64D6-833A-43BD-9ABA-9B8430DB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5DAB9D-EC23-4021-B05F-C27FF8AC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4111C-8E6D-475F-933F-8CDDB3BA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A2533-B578-4CE7-9818-9B524EFD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3E4B8-E7B5-4A29-B6D3-1B0F544C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FE39D-C61D-4E0F-851F-8C8BBBD6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1811-CFA1-4EAD-AA54-6A1EBEAC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CF8F5-1F76-4E88-9859-EC4001BA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A9A47-B9B0-42C3-81DB-5684FFDD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DA73BE-0849-4160-BEFC-27AE11BE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1D1DCF-F10E-4656-BD22-47377607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B9CF4-A6D5-404D-A563-71DEBE2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BA5F5B-82E0-421B-9058-2E3815D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BA7401-6A68-4FB6-B27B-E6FDD81E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7E977-B98C-4B17-95BA-8CC52AB6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B8FD4-695D-4099-8C5B-650E363D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AF7F1-078F-4F92-976B-04495FEF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4E8A-25ED-458F-A8D0-6A78A6CD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6E517-C779-4BC6-8240-9B0852A5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923A4-721E-43C9-9D71-6A50FDC3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BEA5E-4922-4AA5-8DE7-19ADDEEF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209262-5412-4925-8B65-37DBBF47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127D59-DE32-4072-90C9-7AC1D7A7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CE9D6-BD66-4C47-91D8-9F10549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B1DDF-4A96-4376-93BE-0C500A4F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D77DD-1841-460B-8FB0-1B46BC7E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85174A-4BD9-474B-86C4-01AD91A2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7BEEA0-26E8-44F3-AB11-CE67C815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4078-2948-4959-A7F3-3376A4F3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E404BE-25B7-426A-AD24-CC6FFE8F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8EF76A-FF9E-4645-9F3D-14F47093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CFFBBD-88A8-4748-BD34-764E51DC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19ABC5-F8A5-4AED-9206-72AE1EF5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BE824-1017-417C-809B-60D9B3B1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02725-7FDF-457E-8587-FE864ACB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94251-B99F-4793-9E9B-439E7DED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18DA37-C88A-4F46-B9AD-3311589E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FA8D7D-CC16-47A5-BD01-3752F3D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26700-B278-4AD7-9753-D5F383F6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586B-AE89-4553-A520-20F8B258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41F1C-3E69-4920-93E2-406339C3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E19C0-FF99-4CAA-AF19-19148384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411F4-01BF-467D-8B03-055034B8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18FA4-E666-4598-A9C8-D73BB273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BC58-CC85-4660-8C96-8C1B2E1D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2B29-C0C6-4DC0-81C4-723127C1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11CBC-FC16-479A-AFFC-1802839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E85-A7A1-4344-B104-1B69C1C9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A5EE-A593-4FDB-9864-8917E43A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A617-D91A-4193-949B-37A0377A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B7A40-5753-4B7E-B43B-12E82F2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D839-BAB0-402D-85F6-72CBF431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207E-BB6C-4D27-B417-A785994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F4F1-4944-4B8B-9374-777F4897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BF724-8B00-434D-9B8F-94DBBB5F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4DEC-B7A3-4B72-ACAF-243AAD3C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94AFA-95CC-46D4-BDF2-5CEA655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0750-068E-4FCF-9308-67FD2164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45D-A420-49CC-A421-B1553B36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7CC0C-8F34-4F85-94F0-AB4389AE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68736-7094-4EA9-B66D-D383565E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0B1F-49A1-4815-A25F-48BFE3DD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C9A3-BD80-4335-89B1-D4C39476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44E43-73C3-4FF1-8100-386560AC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ACB84-EB28-4DC9-AD11-E8645A44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893D-2359-4FEF-BA77-ABAF3322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43D0-F71C-45C5-BD6C-ADB070F3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5A457-5622-4EB0-9584-01ED91B0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B30B4-D6D5-49C6-B043-9CFD64E2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6FC-E7BF-4F7D-8845-B31EF3C9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AA197-262C-41E8-8673-EC27A725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5E9F9-8C39-48AB-9C19-9A32237C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CA799-488F-44D7-A3F7-8988A0AA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CF902-38B8-4567-8E39-7E7D0ABD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0A647-B960-427B-A6FC-3BA72C52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75AA1-B1D1-4BC3-997D-637763B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E469D-81A3-4851-B662-AC936B65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05C7E-BEEB-4C6D-9318-6125914C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37F0C-399A-4F93-B6A9-E42E7190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FC13A-741A-455C-A8E3-08527928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316-4619-4B81-A543-80E7FFF6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CC0FD-91BC-4331-AB4C-5ED51675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834DC-4102-4D53-B0F3-F483CA9B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D9D7D-4870-4F4D-AE19-F1C4F219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F4EE-994D-4B08-93C9-F38F86CB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A60B-2CD4-4FD1-8197-1B6CDEB6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96141-E277-4B5C-A7E7-0846749D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BDD43-ED8B-40AB-8FAA-84209F7F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C11BA-A6D0-4335-A4D8-C84DED9B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42709-6180-4C2E-B8F7-DF3A7889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0358A-8206-476F-B75E-43AB5BED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523-687F-40D3-ABF8-D91C67CB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477F0-1D5B-4F8F-BEE8-B422E8F5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CDCA4-ECAA-4472-9F5B-129EBEFF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BE867-2BD1-44DE-A5A0-017C6DE2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0130C-BE7A-49D3-8E53-6090E468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6120F-F3A1-482B-A0D8-DAF40C8D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FDC27-C7A2-4988-B314-3ED50270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6D68-4C65-4AA1-A7CE-171B880C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81FFB-484A-4128-BD79-B7C6E27B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3C922-6AB2-45E7-8725-E58F184B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EA405-AF21-4A19-9EEB-559F494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CF5-D46A-424C-9D5F-15D86B7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67777-F2DC-4424-9F35-4DC1EC72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C0EE6-FFC5-43D0-9340-E4C91E95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ABE6-8877-4CC3-8963-0BC2C47C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E0A82-EFD4-4423-A232-068ECDEB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E4011-CE5A-49F6-9EAC-7DDFD940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EDBF3-FACC-4970-8588-C0A7D40E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9633D-EA38-4879-9802-615557A8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2F52A-3211-4F6F-88EC-3420FC9B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FF82D-2E36-4790-BC81-61D30701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66778-9302-4498-BC2E-885B64E8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45B-A7FA-44C4-AF43-383D1307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CCED3-D21C-4184-AA8F-0BD705D6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8D29E-DC84-4C5A-B57B-188A9A1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284F9-1AA9-4E69-8686-E3250293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694CE-21E9-4E0E-8A74-A80C218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2EE54-1E4B-43B5-A06F-C4CC282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63666-F067-4735-80B8-4685DB2A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EAA8F-5A1D-44A7-B96F-92C430E4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67022-24E4-4B2D-B818-CEDD534C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59383-1796-4AE5-93AC-34AFDB1F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A6663-B8C9-4400-A417-FE4B06EF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4CBB-903E-43BD-93A6-7E7EDFEB5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7B49-F571-410D-B5B5-570A3ABFA6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3762-8832-40C0-9AA6-1E95F0AA90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9FC-85E4-4365-A706-37492391B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2D1C-F4EC-4B42-8CF6-B2CB969893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46D6-75B4-4B70-8A99-40B8E66446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644E-A7B9-46CC-8FCB-6DC8C79A7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09A7-FAEA-4D42-9C0E-159A02659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88D4-C084-4D6B-A578-265DE46E74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6C92-BD24-4A5B-9ABB-9372647B96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05A9-A640-4AEF-8134-B9F8565280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3232-25E2-4893-91F6-A220D7D048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E93E-2E42-40FF-9735-16278DCD3E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93AE-0175-4F67-B945-A796ECAD4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AF96-0FD1-455B-87E4-2305FBA475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4997-9AA7-480E-A16C-2745CBFB63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F97D-A55D-4FA8-880B-4292A66A8E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417D-B2DC-4CA9-B6FE-AC7D480851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0DF3-1F31-4E3A-B122-5ACD0D35BB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7D43-59E2-43CC-81E1-1D6F3A0220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222-F7DB-49FB-BF95-901CE56647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4054-6482-40C8-84D2-46E4C13E89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9B8E-936C-4E7F-B674-97B8827C0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78A-3CA0-4EEC-8542-66DE3F5AFA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C7F8-7005-4A4A-A429-F0FA4DD778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C447-80F9-4496-8E96-78CA803A6B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9C02-C1C5-4E82-8C21-E4E66235E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29DD-1B6E-4912-A120-AF28DC3256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B7F5-9DA3-4D53-A288-E3C3975857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F23E-1F04-46F7-8F1C-1637FCB098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C0DE-BAB2-4277-AD0E-179617194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9631-C01A-4D0D-9B62-93842BF583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DC19-CA09-46E6-97A9-00AB1F1BAF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41AF-2692-4C59-B049-FF41FF961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4E8E-C2C3-4E87-ACC6-1BC10B484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5E1E-6362-4003-97D3-8C690239CE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1FF2-CE53-461A-9F2A-85EDB3E88F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8EB3-D04B-480A-8460-55E7507BA5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A43C-0133-41CC-8CE8-FB6B68F900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85D0-A8B9-4841-89BC-4001380826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480" y="2324160"/>
            <a:ext cx="9077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8715600" cy="120024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9634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7201080" cy="20098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064280" y="1989000"/>
            <a:ext cx="82080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4702320" y="2608200"/>
            <a:ext cx="59040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394400" y="2637000"/>
            <a:ext cx="9939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2268360" y="4221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4802040" y="4221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9"/>
          <a:stretch/>
        </p:blipFill>
        <p:spPr>
          <a:xfrm>
            <a:off x="7913520" y="4221000"/>
            <a:ext cx="105120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0"/>
          <a:stretch/>
        </p:blipFill>
        <p:spPr>
          <a:xfrm>
            <a:off x="2109960" y="48974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1"/>
          <a:stretch/>
        </p:blipFill>
        <p:spPr>
          <a:xfrm>
            <a:off x="4643280" y="491184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2"/>
          <a:stretch/>
        </p:blipFill>
        <p:spPr>
          <a:xfrm>
            <a:off x="7740720" y="491184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554040"/>
            <a:ext cx="8601120" cy="6114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219640" y="15127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020000" y="151272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164360" y="23050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219640" y="31129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948360" y="308304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92720" y="465300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403280" y="541656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364000" y="544500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258920" y="6194520"/>
            <a:ext cx="35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571680" y="1162080"/>
            <a:ext cx="8001000" cy="4533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443640" y="12254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3276720" y="20034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236000" y="20034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4067280" y="27957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3635280" y="35877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2050920" y="508464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3995640" y="50990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314280" y="847800"/>
            <a:ext cx="8515440" cy="5162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187280" y="42782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187280" y="50418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5364000" y="42782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5364000" y="504180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533520" y="2071800"/>
            <a:ext cx="8076960" cy="2714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14400" y="352908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5076720" y="289548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34160" cy="4286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66764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7667640" y="26938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766764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7667640" y="4437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7669080" y="5070600"/>
            <a:ext cx="64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271440" y="914400"/>
            <a:ext cx="8601120" cy="50292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233880" y="3213000"/>
            <a:ext cx="431640" cy="335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5883120" y="3213000"/>
            <a:ext cx="432000" cy="3351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3276720" y="5416560"/>
            <a:ext cx="431640" cy="3348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056280" y="5430960"/>
            <a:ext cx="4320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738360" y="2381400"/>
            <a:ext cx="7667280" cy="20952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503280" cy="390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5781600" y="3933720"/>
            <a:ext cx="5032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262080" y="787320"/>
            <a:ext cx="8619840" cy="5867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900000" y="6221520"/>
            <a:ext cx="453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9:2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